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png" ContentType="image/png"/>
  <Override PartName="/ppt/media/image30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56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41.png" ContentType="image/png"/>
  <Override PartName="/ppt/media/image14.wmf" ContentType="image/x-wmf"/>
  <Override PartName="/ppt/media/image6.png" ContentType="image/png"/>
  <Override PartName="/ppt/media/image28.jpeg" ContentType="image/jpeg"/>
  <Override PartName="/ppt/media/image7.jpeg" ContentType="image/jpeg"/>
  <Override PartName="/ppt/media/image31.wmf" ContentType="image/x-wmf"/>
  <Override PartName="/ppt/media/image25.png" ContentType="image/png"/>
  <Override PartName="/ppt/media/image37.png" ContentType="image/png"/>
  <Override PartName="/ppt/media/image40.wmf" ContentType="image/x-wmf"/>
  <Override PartName="/ppt/media/image39.png" ContentType="image/png"/>
  <Override PartName="/ppt/media/image44.wmf" ContentType="image/x-wmf"/>
  <Override PartName="/ppt/media/image45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46.wmf" ContentType="image/x-wmf"/>
  <Override PartName="/ppt/media/image26.png" ContentType="image/png"/>
  <Override PartName="/ppt/media/image49.wmf" ContentType="image/x-wmf"/>
  <Override PartName="/ppt/media/image51.wmf" ContentType="image/x-wmf"/>
  <Override PartName="/ppt/media/image42.png" ContentType="image/png"/>
  <Override PartName="/ppt/media/image53.wmf" ContentType="image/x-wmf"/>
  <Override PartName="/ppt/media/image3.png" ContentType="image/png"/>
  <Override PartName="/ppt/media/image33.png" ContentType="image/png"/>
  <Override PartName="/ppt/media/image43.png" ContentType="image/png"/>
  <Override PartName="/ppt/media/image54.wmf" ContentType="image/x-wmf"/>
  <Override PartName="/ppt/media/image55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13.wmf" ContentType="image/x-wmf"/>
  <Override PartName="/ppt/media/image8.jpeg" ContentType="image/jpeg"/>
  <Override PartName="/ppt/media/image12.png" ContentType="image/png"/>
  <Override PartName="/ppt/media/image52.wmf" ContentType="image/x-wmf"/>
  <Override PartName="/ppt/media/image10.wmf" ContentType="image/x-wmf"/>
  <Override PartName="/ppt/media/image47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42E-C756-4FC7-9D91-378E9701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900-A019-4E55-9D26-59D56FAB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AF860-3AAC-46BB-BF56-38EEE791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89E4A-0573-4DD8-8BB8-AF65E7DE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BBCF6-B482-473A-BEC8-0775654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2D2A1-9127-4FED-9DDF-CC91136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E5CCE-95A8-4A4C-806E-40A921F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26D41-3AEE-4F7E-A168-8CE48D0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2B4F0-9272-437A-8752-EA3B0239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DCF15-8CD1-4A08-ADAA-EA3681D8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DB35B-64D2-4030-8747-491991AF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CF273-EFDE-4770-9C95-D09C0703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3BB-68A9-4318-997F-0D3C6909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9FA8B-4059-4FEC-ADD8-7205B063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E7BAD-E388-4393-BF37-011913F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DB8B1-22D7-40F0-91B0-F5E53246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D6B65-07A8-4589-B88E-B8516820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671CB-628D-4E57-9090-51176D1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68B1B-A9F2-49A6-987B-C1E0DE7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B4CFD-53B2-425C-9BDC-637E68C0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BD142-453A-446F-84E5-BB42DB47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F41A8-E68B-423E-A9EF-4A9C26C9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746CD-BE4C-4C64-8DE4-C8C8B2D0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AB8-811C-41B0-AEAA-9E8BE421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2B4EE-A0BC-4B05-8FD0-712DD314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4D907-156B-4955-BE9F-7964CF92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714B1-CD7E-4521-A27C-51427016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9546C-326E-4288-AEC6-A65A7A56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64827-0409-4ED6-B7D5-2B51E8A6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69C66-D2BE-490B-AA78-A696A4D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F8341-FC91-4758-BF88-E8C0B33B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1EF73-F4E0-44A6-82B7-6C74422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14AC-6002-4E32-87ED-0056552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1C389-DDBA-4C61-91FB-DF4E342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82E7-18D3-4F05-B5D7-FD4CA1B0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59F30-1528-4D07-B12C-0A4222C4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573D5-9182-4AE2-843B-DFB98C6B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F7CEE-DC13-44E2-92F6-2E04E983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5B4FF-3D25-47E4-B855-D94D2506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9F6CA-4A54-4E75-956A-63D4E41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A302D-21A4-435B-8D37-B8B29142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36C8B-B5D7-4E46-A192-90225B1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AC3A0-CD1D-4921-B3F4-B6468566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3F876-C9AC-447C-B0D7-4E780B09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57285-DC2F-45BD-915B-31C847CC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F198-1E2E-4F38-B3B8-3EA86C67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6CE97-2C3F-4BD0-B403-854F808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CF457-3D2F-41E4-92FE-F54DBA28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4B79C-FAB3-4EC6-944C-1EEA1C36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81568-169D-4C5E-B5B1-C99C6120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C079C-C01C-4981-967E-042895FF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BAFA4-2C7B-4AE1-BBB9-1CDDD264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541D3-AC56-4929-8636-9DFFBE6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010C1-7EF8-41C4-BE96-2B2D85F9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E74D6-7825-40D7-A862-86B01D57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8FFD8-F1CD-4960-9931-34418987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9F19-7F9E-45D5-A456-7B3B3CA9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DE923-D8D7-442B-B38F-59ECA132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71673-2E19-421C-9B6F-B4A85CE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11FF1-435E-4F91-A412-6C5210F2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DACE1-B29A-496D-B0FC-0B5E973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E1FE5-C215-4DDF-8F6C-57B2C9A4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50978-844E-443A-92CB-722A6B47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77D72-BB6B-43B9-A735-A7885598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FC1E1-D654-493A-949B-61EB5F94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60944-8B4E-4227-8BF2-57F64678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4F10D-599B-4AE7-895D-930EBA2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460E-094E-4B01-8A22-D977007C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97BDB-388C-4414-AA4E-5463EBEC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5BE3F-E939-4ACC-B765-513B419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9F5F9-7A90-4D9A-A452-7A1F90AB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2C2FD-4527-4902-86CB-52C271FB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2D589-B0C1-4781-9914-7A97824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018CE-C7C4-4F4D-A750-63BFEAB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37F7D-8B6F-4545-8A24-FDAE8EFC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64625-811D-4195-A5F9-F1AC64A7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D7E38-37D3-4A7D-B257-99E6C9CA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0DC7D-A93B-4B32-9DAF-03F02515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DC7F-FFBD-4EE8-ACDF-CB868E8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429A1-87C6-4BFA-87C2-BC49E0F8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F09C0-20EA-4125-80F9-48AC0569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FA626-6672-4C68-A036-7A9684EC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06659-5B37-4715-88F1-764A71E2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50F19-2F04-4C88-8377-56306FF5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CD3EE-B535-4D1F-A0F5-A4800B9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132CA-B037-45FA-B33D-49BDFFED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6AB73-9467-4A9F-84EB-17B6C6CD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9DE7B-9E1C-4B20-91A7-8EA9A752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57010-FCF8-434E-9ECF-DA9776B6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6494-1EB5-4C24-9F8E-D7B00851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45B6F-132D-44AB-8F3D-AB6E226C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F7A8-23E4-47BB-B459-523D83F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326-3E08-45FA-9D47-46FD0B2B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A6A2-39F5-4F82-B471-E04177C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5EBB-C2C5-439C-B9D7-548EE1DA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29DA-D58A-481A-B25D-D6240BEE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B587-E1FE-442F-B99A-B5442685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2691-AE9A-479A-B31C-DAE448E8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2BF6-C992-4DA5-841E-FEB86ECD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181A-8205-4F3B-85D9-690D8830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6B82-4DBF-426A-A30D-8E5C812B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DBD3-A2D9-42E5-BB1D-601264EE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6AF8-70F5-4689-B120-07AC22DA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163-82C0-45AA-8770-BEEE4A32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0BC41-610F-476B-A4AC-2151E86F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7298-2732-4AC6-8FB5-4A63B9B7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A634-BDC0-4379-9CEF-8056FF20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E912-DE27-4B7E-B5C0-15346DAF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3076-1FF2-43F7-BC77-5F59F5A3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0D20-D10B-40F5-98EA-A6380172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9156-3449-4CBB-B5D4-97F9E023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1119-2032-4F9C-943D-2D78ACD8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BC638-CDFC-4F57-AD4D-780D6088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2AED-BC29-4B96-ACE3-50D5763E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A1B-E679-482A-BCC0-2DDF9BF2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E19C-1879-4D78-843D-FE488744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FDDF2-A7EF-43F6-8802-C432B5F5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18E79-00DD-42C1-8801-E4EEFE9F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1E04F-2AE2-41D4-AD94-C39304D3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80E4-D871-4ACF-8B66-E960EA3F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4E58-D08B-4EC3-A650-1858761C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12FC-A75C-4A7C-B6F8-68D79E7D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CF489-9277-4E83-90C4-9489D213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8FDB-CB32-49DC-8002-2423B2AC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3AAB-F2E1-4F34-AE24-1F0D2340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F69-F803-4851-9963-BE43D4D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24C36-2BAB-492D-A1F7-17CB233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68C2-22B7-4611-92C2-1F57FCD2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300F1-9B17-412E-B208-908AC556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380B-2A2C-4A05-A9D0-909D533E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86B0-9155-4550-BEB8-6C0FEEA7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28A9-7C95-4AE8-8A00-F97B8C8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F450C-49D1-47B0-A163-E071881D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EC696-A2EB-4F34-BDD2-C8C2E481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696C3-BF99-4BCC-B1E2-CDB190B0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35E9-08AA-4E84-8820-F4A201B9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E82-BF8E-47F5-8CBA-A7E57596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7E95-E1C7-4D5B-912A-4C6262FE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80736-F9D8-4CA7-8E69-4BFD1E1F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D2ACD-79C7-4855-AFF8-F204E14F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CE4A-BC30-4D9A-BB80-044D162B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46B72-F054-452C-9812-A6050047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91245-8C21-47F8-A5AC-EA4F365E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5C871-66BC-442A-B09B-183C9A8E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9B8AC-04CB-4F49-A9F5-284F244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57CE-9A48-4B31-A1D6-2679E75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4AC08-25BA-4377-AB03-9888FBFD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693-F579-4105-8536-5FE1E860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D17E-8C45-47C6-8368-CEBE5720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34B3F-0A95-48AC-90D3-E10EFCA8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BF3D-6588-4F82-AA54-2D200413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17A2-16D5-461E-A89A-DD6757EF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E4E91-5904-40FD-B26E-126E1C43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B8419-323B-46A3-81D6-44F39B52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AE4D8-2A12-4076-A2ED-DF4AF38B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7023C-1D61-4E08-8230-0B031DE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C1B3-2F3E-47CC-8468-05BF4AE9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60057-E857-49B7-866D-965F7849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923-79D7-4D8D-9E5F-562B6C3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C3E54-A15C-41DC-B9E1-FB4931EA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C171D-1AED-4B33-82C8-82278768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5E3A-BC59-4283-B79F-A8E49506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EC08D-4665-4412-8E33-C2383EE3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7D9A-8602-45AE-9878-A13E62FE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FDB87-DE54-4A3A-BAA7-FA8340EE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9EFE7-D51C-4075-BC7D-BB0214FE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7B3E9-CB32-4970-9302-0EAF68B1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DE4AE-D038-49A9-BB19-2B638D5A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48841-C513-4907-9EE8-F4AE0D17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C44-EA7E-408D-A7E1-9181023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64F7-B451-4DA9-BB1B-AF31EC09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06EE7-FD6D-4EC6-9DF6-531E3B2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E66C-FC81-47C7-87D1-3409E06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59F1F-EFB9-4368-8924-BA4BD8CC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2040B-57F8-45A0-8636-270E693A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1AF75-8953-4215-9FE8-12568F58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36669-E0E2-45E6-A606-FF395EF3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E6648-1ADA-4696-9CEA-DB628C6C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948A2-BC9E-4BFF-8A42-DAC66696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D4E60-139D-4A52-B3C5-BFB99589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9BCD-4BFB-4F16-9E93-AA7276C561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E5DD-531C-4556-95A1-7B8115E429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35E8-CFD9-475F-8695-FA10D88287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62F0-68E9-4C93-857F-F268BCCF30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15BC-581A-4011-B561-819154C709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883F-37A8-480D-98D7-3451828CD9E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0FB9-A8A4-42CC-BC35-491E6B0C56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B3B-1111-4C27-9722-6459DB7A50D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5BEB-F47B-4419-9500-58BF07449D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5E26-8B7A-4730-8C58-F832E1C1AD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7E0D-5622-4D2A-9FB7-22F8B269D9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A18F-7BB9-41D6-9B3E-99D1CC36B0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39E7-BC49-4E63-940C-6B0431DE3A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30E-CD91-4437-9160-6DA0AEC075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DAD1-612A-4DA5-87F9-9241790A16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1"/>
          <p:cNvSpPr/>
          <p:nvPr/>
        </p:nvSpPr>
        <p:spPr>
          <a:xfrm>
            <a:off x="179280" y="4292640"/>
            <a:ext cx="88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јска реакција у  јонском облику (збир наелектрисања са леве и десне стране једначине мора бити једнак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"/>
          <p:cNvSpPr/>
          <p:nvPr/>
        </p:nvSpPr>
        <p:spPr>
          <a:xfrm>
            <a:off x="327240" y="1403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"/>
          <p:cNvSpPr/>
          <p:nvPr/>
        </p:nvSpPr>
        <p:spPr>
          <a:xfrm>
            <a:off x="1979640" y="157320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16" descr=""/>
          <p:cNvPicPr/>
          <p:nvPr/>
        </p:nvPicPr>
        <p:blipFill>
          <a:blip r:embed="rId1"/>
          <a:stretch/>
        </p:blipFill>
        <p:spPr>
          <a:xfrm>
            <a:off x="1066680" y="2157480"/>
            <a:ext cx="4513320" cy="89532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8" descr=""/>
          <p:cNvPicPr/>
          <p:nvPr/>
        </p:nvPicPr>
        <p:blipFill>
          <a:blip r:embed="rId2"/>
          <a:stretch/>
        </p:blipFill>
        <p:spPr>
          <a:xfrm>
            <a:off x="733320" y="3357720"/>
            <a:ext cx="7405920" cy="6397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9" descr=""/>
          <p:cNvPicPr/>
          <p:nvPr/>
        </p:nvPicPr>
        <p:blipFill>
          <a:blip r:embed="rId3"/>
          <a:stretch/>
        </p:blipFill>
        <p:spPr>
          <a:xfrm>
            <a:off x="932040" y="1339920"/>
            <a:ext cx="7170480" cy="549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0" descr=""/>
          <p:cNvPicPr/>
          <p:nvPr/>
        </p:nvPicPr>
        <p:blipFill>
          <a:blip r:embed="rId4"/>
          <a:stretch/>
        </p:blipFill>
        <p:spPr>
          <a:xfrm>
            <a:off x="939960" y="5334120"/>
            <a:ext cx="4449600" cy="54900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1"/>
          <p:cNvSpPr/>
          <p:nvPr/>
        </p:nvSpPr>
        <p:spPr>
          <a:xfrm>
            <a:off x="5564160" y="2254320"/>
            <a:ext cx="304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"/>
          <p:cNvSpPr/>
          <p:nvPr/>
        </p:nvSpPr>
        <p:spPr>
          <a:xfrm>
            <a:off x="5576040" y="2681280"/>
            <a:ext cx="27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Box 1"/>
          <p:cNvSpPr/>
          <p:nvPr/>
        </p:nvSpPr>
        <p:spPr>
          <a:xfrm>
            <a:off x="397800" y="15447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773280" y="1463760"/>
            <a:ext cx="3797280" cy="5619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727200" y="2260440"/>
            <a:ext cx="5200560" cy="144648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4"/>
          <p:cNvSpPr/>
          <p:nvPr/>
        </p:nvSpPr>
        <p:spPr>
          <a:xfrm>
            <a:off x="5924520" y="234936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5944320" y="288144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4" descr=""/>
          <p:cNvPicPr/>
          <p:nvPr/>
        </p:nvPicPr>
        <p:blipFill>
          <a:blip r:embed="rId3"/>
          <a:stretch/>
        </p:blipFill>
        <p:spPr>
          <a:xfrm>
            <a:off x="773280" y="3852720"/>
            <a:ext cx="4552920" cy="56052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" descr=""/>
          <p:cNvPicPr/>
          <p:nvPr/>
        </p:nvPicPr>
        <p:blipFill>
          <a:blip r:embed="rId4"/>
          <a:stretch/>
        </p:blipFill>
        <p:spPr>
          <a:xfrm>
            <a:off x="773280" y="4653000"/>
            <a:ext cx="720720" cy="4744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10"/>
          <p:cNvSpPr/>
          <p:nvPr/>
        </p:nvSpPr>
        <p:spPr>
          <a:xfrm>
            <a:off x="1475280" y="4724280"/>
            <a:ext cx="33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ксида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0" descr=""/>
          <p:cNvPicPr/>
          <p:nvPr/>
        </p:nvPicPr>
        <p:blipFill>
          <a:blip r:embed="rId5"/>
          <a:stretch/>
        </p:blipFill>
        <p:spPr>
          <a:xfrm>
            <a:off x="1042920" y="5127480"/>
            <a:ext cx="144360" cy="411480"/>
          </a:xfrm>
          <a:prstGeom prst="rect">
            <a:avLst/>
          </a:prstGeom>
          <a:ln w="0">
            <a:noFill/>
          </a:ln>
        </p:spPr>
      </p:pic>
      <p:sp>
        <p:nvSpPr>
          <p:cNvPr id="861" name="Rectangle 11"/>
          <p:cNvSpPr/>
          <p:nvPr/>
        </p:nvSpPr>
        <p:spPr>
          <a:xfrm>
            <a:off x="1476360" y="5140440"/>
            <a:ext cx="318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редук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"/>
          <p:cNvSpPr/>
          <p:nvPr/>
        </p:nvSpPr>
        <p:spPr>
          <a:xfrm>
            <a:off x="1116000" y="14842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ванск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ичка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34920" y="2276640"/>
            <a:ext cx="914544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ванскa ћел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 у којој се одиграва спонтана редокс реакција при чему се хемијска енергија претвара у електричну (када се споје преко проводничке жице, производи се електрична струј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литичка ћел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 у којој се хемијска реакција одиграва применом електромоторне силе спољашњег извора, чиме се електрони присиљавају да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крећ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супротном правцу од оног код галванске ћелије (троши се електрична енергија или рад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2484360" y="981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хемијска ће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1187280" y="5661000"/>
            <a:ext cx="705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а случаја важ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 на којој се врш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 на којој се врш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"/>
          <p:cNvPicPr/>
          <p:nvPr/>
        </p:nvPicPr>
        <p:blipFill>
          <a:blip r:embed="rId1"/>
          <a:srcRect l="30159" t="23253" r="28335" b="19656"/>
          <a:stretch/>
        </p:blipFill>
        <p:spPr>
          <a:xfrm>
            <a:off x="2411280" y="1758960"/>
            <a:ext cx="3372120" cy="2606760"/>
          </a:xfrm>
          <a:prstGeom prst="rect">
            <a:avLst/>
          </a:prstGeom>
          <a:ln w="0">
            <a:noFill/>
          </a:ln>
        </p:spPr>
      </p:pic>
      <p:sp>
        <p:nvSpPr>
          <p:cNvPr id="867" name="Rectangle 1"/>
          <p:cNvSpPr/>
          <p:nvPr/>
        </p:nvSpPr>
        <p:spPr>
          <a:xfrm>
            <a:off x="179280" y="4581360"/>
            <a:ext cx="89647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од две полућелије (полуелемента) које су сачињене од електрода уроњених у растворе одговарајућих ј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ћелије су повезане електричним проводником (жицом, којом се крећу електрони) и електролитичким мостом (којим се крећу јон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03280" y="11048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ванска ћелија (елемент, спре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1"/>
          <p:cNvSpPr/>
          <p:nvPr/>
        </p:nvSpPr>
        <p:spPr>
          <a:xfrm>
            <a:off x="108000" y="4618080"/>
            <a:ext cx="89647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ички мос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ључ) је це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ика напуњена раствором нек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не соли (електролитом) која не учествује у реакцијама на електродам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 већ служи да се у полућелијама одржи електрична неутралност миграцијом (кретањем) јона. Катјони из електролитичког кључа прелазе у катодну полућелију, а анјони у анодну полућел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rcRect l="37909" t="31127" r="31102" b="25566"/>
          <a:stretch/>
        </p:blipFill>
        <p:spPr>
          <a:xfrm>
            <a:off x="5318280" y="1844640"/>
            <a:ext cx="3574800" cy="2808360"/>
          </a:xfrm>
          <a:prstGeom prst="rect">
            <a:avLst/>
          </a:prstGeom>
          <a:ln w="0">
            <a:noFill/>
          </a:ln>
        </p:spPr>
      </p:pic>
      <p:sp>
        <p:nvSpPr>
          <p:cNvPr id="871" name="TextBox 1"/>
          <p:cNvSpPr/>
          <p:nvPr/>
        </p:nvSpPr>
        <p:spPr>
          <a:xfrm>
            <a:off x="108000" y="155736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ванска ћелија састављена од редокс парова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Zn и  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u позната је под назив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јелов елемен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"/>
          <p:cNvSpPr/>
          <p:nvPr/>
        </p:nvSpPr>
        <p:spPr>
          <a:xfrm>
            <a:off x="2700360" y="9619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ијелов е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179280" y="2397240"/>
            <a:ext cx="54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љен је од две чаше повезане електролитичким мост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едној 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-шипка уроњена у раствор Cu(II) со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-шипка уроњена у раствор Zn(II)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631800" y="2924280"/>
            <a:ext cx="4011480" cy="216036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250920" y="1125360"/>
            <a:ext cx="842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 и редукција се одигравају у раздвојеним просто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216000" y="1700280"/>
            <a:ext cx="74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а (-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Zn(s) →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216000" y="2133720"/>
            <a:ext cx="74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е 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а (+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5153040" y="2781360"/>
            <a:ext cx="337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извесног време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3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1071720" cy="17575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8"/>
          <p:cNvSpPr/>
          <p:nvPr/>
        </p:nvSpPr>
        <p:spPr>
          <a:xfrm>
            <a:off x="4859280" y="45086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-ан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9"/>
          <p:cNvSpPr/>
          <p:nvPr/>
        </p:nvSpPr>
        <p:spPr>
          <a:xfrm>
            <a:off x="7451640" y="4508640"/>
            <a:ext cx="14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-ка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9"/>
          <p:cNvSpPr/>
          <p:nvPr/>
        </p:nvSpPr>
        <p:spPr>
          <a:xfrm>
            <a:off x="179280" y="541800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 прелазе са метала у раствор, а еквивалентна количина електрона са Zn-електроде преко проводника долази на Cu-електроду где реагују са 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ма из раствора, таложећи награђени Cu на ел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роду бак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2195640" y="111924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о приказивање галванске ћел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3060720" y="2349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 Zn|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u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0"/>
          <p:cNvSpPr/>
          <p:nvPr/>
        </p:nvSpPr>
        <p:spPr>
          <a:xfrm>
            <a:off x="250920" y="242244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а између ф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1"/>
          <p:cNvSpPr/>
          <p:nvPr/>
        </p:nvSpPr>
        <p:spPr>
          <a:xfrm>
            <a:off x="5230800" y="2852640"/>
            <a:ext cx="343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ички м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Curved Up Arrow 12"/>
          <p:cNvSpPr/>
          <p:nvPr/>
        </p:nvSpPr>
        <p:spPr>
          <a:xfrm rot="10800000">
            <a:off x="2401920" y="2061720"/>
            <a:ext cx="1512720" cy="360360"/>
          </a:xfrm>
          <a:custGeom>
            <a:avLst/>
            <a:gdLst>
              <a:gd name="textAreaLeft" fmla="*/ 344160 w 1512720"/>
              <a:gd name="textAreaRight" fmla="*/ 1123560 w 1512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35" hR="21600" stAng="10800000" swAng="-5400000"/>
                <a:lnTo>
                  <a:pt x="11122" y="21600"/>
                </a:lnTo>
                <a:arcTo wR="9835" hR="21600" stAng="5400000" swAng="-3626634"/>
                <a:lnTo>
                  <a:pt x="21288" y="5400"/>
                </a:lnTo>
                <a:lnTo>
                  <a:pt x="20314" y="0"/>
                </a:lnTo>
                <a:lnTo>
                  <a:pt x="18715" y="5400"/>
                </a:lnTo>
                <a:lnTo>
                  <a:pt x="19358" y="5400"/>
                </a:lnTo>
                <a:arcTo wR="9835" hR="21600" stAng="1773366" swAng="3524028"/>
                <a:lnTo>
                  <a:pt x="10479" y="21554"/>
                </a:lnTo>
                <a:arcTo wR="9835" hR="21600" stAng="5502606" swAng="5297394"/>
                <a:close/>
              </a:path>
              <a:path fill="darkenLess" w="21600" h="21600">
                <a:moveTo>
                  <a:pt x="0" y="0"/>
                </a:moveTo>
                <a:arcTo wR="9835" hR="21600" stAng="10800000" swAng="-5400000"/>
                <a:lnTo>
                  <a:pt x="11122" y="21600"/>
                </a:lnTo>
                <a:arcTo wR="9835" hR="21600" stAng="5400000" swAng="102606"/>
                <a:lnTo>
                  <a:pt x="10479" y="21554"/>
                </a:lnTo>
                <a:arcTo wR="9835" hR="21600" stAng="5502606" swAng="5297394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5"/>
          <p:cNvSpPr/>
          <p:nvPr/>
        </p:nvSpPr>
        <p:spPr>
          <a:xfrm>
            <a:off x="257040" y="43228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говору оксидација на аноди пише се са леве стране, а редукција на катоди са десне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Curved Up Arrow 16"/>
          <p:cNvSpPr/>
          <p:nvPr/>
        </p:nvSpPr>
        <p:spPr>
          <a:xfrm rot="1771200">
            <a:off x="4223880" y="3082680"/>
            <a:ext cx="1224000" cy="431640"/>
          </a:xfrm>
          <a:custGeom>
            <a:avLst/>
            <a:gdLst>
              <a:gd name="textAreaLeft" fmla="*/ 265320 w 1224000"/>
              <a:gd name="textAreaRight" fmla="*/ 904680 w 1224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71" hR="21600" stAng="10800000" swAng="-5400000"/>
                <a:lnTo>
                  <a:pt x="11277" y="21600"/>
                </a:lnTo>
                <a:arcTo wR="9371" hR="21600" stAng="5400000" swAng="-3554475"/>
                <a:lnTo>
                  <a:pt x="21302" y="5400"/>
                </a:lnTo>
                <a:lnTo>
                  <a:pt x="19695" y="0"/>
                </a:lnTo>
                <a:lnTo>
                  <a:pt x="17492" y="5400"/>
                </a:lnTo>
                <a:lnTo>
                  <a:pt x="18444" y="5400"/>
                </a:lnTo>
                <a:arcTo wR="9371" hR="21600" stAng="1845525" swAng="3402110"/>
                <a:lnTo>
                  <a:pt x="10324" y="21488"/>
                </a:lnTo>
                <a:arcTo wR="9371" hR="21600" stAng="5552365" swAng="5247635"/>
                <a:close/>
              </a:path>
              <a:path fill="darkenLess" w="21600" h="21600">
                <a:moveTo>
                  <a:pt x="0" y="0"/>
                </a:moveTo>
                <a:arcTo wR="9371" hR="21600" stAng="10800000" swAng="-5400000"/>
                <a:lnTo>
                  <a:pt x="11277" y="21600"/>
                </a:lnTo>
                <a:arcTo wR="9371" hR="21600" stAng="5400000" swAng="152365"/>
                <a:lnTo>
                  <a:pt x="10324" y="21488"/>
                </a:lnTo>
                <a:arcTo wR="9371" hR="21600" stAng="5552365" swAng="5247635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1"/>
          <p:cNvSpPr/>
          <p:nvPr/>
        </p:nvSpPr>
        <p:spPr>
          <a:xfrm>
            <a:off x="0" y="98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кома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ни у водени раство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одиграва се процес оксидације и редукције  у истом простору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2"/>
          <p:cNvSpPr/>
          <p:nvPr/>
        </p:nvSpPr>
        <p:spPr>
          <a:xfrm>
            <a:off x="2124000" y="22780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s) + C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→ Z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2739600" y="1692360"/>
            <a:ext cx="5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Curved Down Arrow 4"/>
          <p:cNvSpPr/>
          <p:nvPr/>
        </p:nvSpPr>
        <p:spPr>
          <a:xfrm>
            <a:off x="2484360" y="2050920"/>
            <a:ext cx="936720" cy="298440"/>
          </a:xfrm>
          <a:custGeom>
            <a:avLst/>
            <a:gdLst>
              <a:gd name="textAreaLeft" fmla="*/ 205920 w 936720"/>
              <a:gd name="textAreaRight" fmla="*/ 693360 w 93672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10" hR="21600" stAng="10800000" swAng="5400000"/>
                <a:lnTo>
                  <a:pt x="11231" y="0"/>
                </a:lnTo>
                <a:arcTo wR="9510" hR="21600" stAng="-5400000" swAng="3576563"/>
                <a:lnTo>
                  <a:pt x="21298" y="16200"/>
                </a:lnTo>
                <a:lnTo>
                  <a:pt x="19880" y="21600"/>
                </a:lnTo>
                <a:lnTo>
                  <a:pt x="17857" y="16200"/>
                </a:lnTo>
                <a:lnTo>
                  <a:pt x="18717" y="16200"/>
                </a:lnTo>
                <a:arcTo wR="9510" hR="21600" stAng="-1823437" swAng="-3439120"/>
                <a:lnTo>
                  <a:pt x="10370" y="89"/>
                </a:lnTo>
                <a:arcTo wR="9510" hR="21600" stAng="-5537444" swAng="-5262556"/>
                <a:close/>
              </a:path>
              <a:path fill="darkenLess" w="21600" h="21600">
                <a:moveTo>
                  <a:pt x="0" y="21600"/>
                </a:moveTo>
                <a:arcTo wR="9510" hR="21600" stAng="10800000" swAng="5400000"/>
                <a:lnTo>
                  <a:pt x="9510" y="0"/>
                </a:lnTo>
                <a:arcTo wR="9510" hR="21600" stAng="-5400000" swAng="137444"/>
                <a:lnTo>
                  <a:pt x="10370" y="89"/>
                </a:lnTo>
                <a:arcTo wR="9510" hR="21600" stAng="-5537444" swAng="-5262556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2771640" y="2708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извесног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038320" cy="290664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" descr=""/>
          <p:cNvPicPr/>
          <p:nvPr/>
        </p:nvPicPr>
        <p:blipFill>
          <a:blip r:embed="rId2"/>
          <a:stretch/>
        </p:blipFill>
        <p:spPr>
          <a:xfrm>
            <a:off x="6404040" y="2852640"/>
            <a:ext cx="1913040" cy="2749680"/>
          </a:xfrm>
          <a:prstGeom prst="rect">
            <a:avLst/>
          </a:prstGeom>
          <a:ln w="0">
            <a:noFill/>
          </a:ln>
        </p:spPr>
      </p:pic>
      <p:cxnSp>
        <p:nvCxnSpPr>
          <p:cNvPr id="897" name="Straight Arrow Connector 11"/>
          <p:cNvCxnSpPr/>
          <p:nvPr/>
        </p:nvCxnSpPr>
        <p:spPr>
          <a:xfrm>
            <a:off x="2916000" y="3357360"/>
            <a:ext cx="29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8" name="Rectangle 12"/>
          <p:cNvSpPr/>
          <p:nvPr/>
        </p:nvSpPr>
        <p:spPr>
          <a:xfrm>
            <a:off x="2877840" y="3932280"/>
            <a:ext cx="30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s) →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3"/>
          <p:cNvSpPr/>
          <p:nvPr/>
        </p:nvSpPr>
        <p:spPr>
          <a:xfrm>
            <a:off x="2627280" y="342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4"/>
          <p:cNvSpPr/>
          <p:nvPr/>
        </p:nvSpPr>
        <p:spPr>
          <a:xfrm>
            <a:off x="2700360" y="5127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5"/>
          <p:cNvSpPr/>
          <p:nvPr/>
        </p:nvSpPr>
        <p:spPr>
          <a:xfrm>
            <a:off x="2627280" y="4581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"/>
          <p:cNvSpPr/>
          <p:nvPr/>
        </p:nvSpPr>
        <p:spPr>
          <a:xfrm>
            <a:off x="108000" y="6165720"/>
            <a:ext cx="88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у циљу лакшег проучавања, посматрају се одвојене полуреак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TextBox 2"/>
          <p:cNvSpPr/>
          <p:nvPr/>
        </p:nvSpPr>
        <p:spPr>
          <a:xfrm>
            <a:off x="2411280" y="98100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5"/>
          <p:cNvSpPr/>
          <p:nvPr/>
        </p:nvSpPr>
        <p:spPr>
          <a:xfrm>
            <a:off x="5364000" y="3068640"/>
            <a:ext cx="273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Z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2"/>
          <p:cNvSpPr/>
          <p:nvPr/>
        </p:nvSpPr>
        <p:spPr>
          <a:xfrm>
            <a:off x="2411280" y="9810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4"/>
          <p:cNvSpPr/>
          <p:nvPr/>
        </p:nvSpPr>
        <p:spPr>
          <a:xfrm>
            <a:off x="182520" y="3860640"/>
            <a:ext cx="81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спостави равнотежно стање на граничној површини метал/раствор се ствара двоструки електрични слој, чија је мера електродни потенциј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182520" y="5157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је разлика потенцијала између метала и раствора његове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5435640" y="21034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          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9" name="Straight Arrow Connector 34"/>
          <p:cNvCxnSpPr/>
          <p:nvPr/>
        </p:nvCxnSpPr>
        <p:spPr>
          <a:xfrm>
            <a:off x="6012000" y="230472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0" name="Straight Arrow Connector 35"/>
          <p:cNvCxnSpPr/>
          <p:nvPr/>
        </p:nvCxnSpPr>
        <p:spPr>
          <a:xfrm flipH="1">
            <a:off x="6011640" y="239040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1" name="Straight Arrow Connector 36"/>
          <p:cNvCxnSpPr/>
          <p:nvPr/>
        </p:nvCxnSpPr>
        <p:spPr>
          <a:xfrm>
            <a:off x="6875640" y="327312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2" name="Straight Arrow Connector 37"/>
          <p:cNvCxnSpPr/>
          <p:nvPr/>
        </p:nvCxnSpPr>
        <p:spPr>
          <a:xfrm flipH="1">
            <a:off x="6875280" y="335736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3" name="TextBox 16"/>
          <p:cNvSpPr/>
          <p:nvPr/>
        </p:nvSpPr>
        <p:spPr>
          <a:xfrm>
            <a:off x="5398920" y="174960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оксида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7"/>
          <p:cNvSpPr/>
          <p:nvPr/>
        </p:nvSpPr>
        <p:spPr>
          <a:xfrm>
            <a:off x="5364000" y="2565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реду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41"/>
          <p:cNvGrpSpPr/>
          <p:nvPr/>
        </p:nvGrpSpPr>
        <p:grpSpPr>
          <a:xfrm>
            <a:off x="684360" y="1832040"/>
            <a:ext cx="1490400" cy="1667880"/>
            <a:chOff x="684360" y="1832040"/>
            <a:chExt cx="1490400" cy="1667880"/>
          </a:xfrm>
        </p:grpSpPr>
        <p:sp>
          <p:nvSpPr>
            <p:cNvPr id="916" name="Straight Connector 41"/>
            <p:cNvSpPr/>
            <p:nvPr/>
          </p:nvSpPr>
          <p:spPr>
            <a:xfrm>
              <a:off x="684360" y="2119320"/>
              <a:ext cx="0" cy="136836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Straight Connector 42"/>
            <p:cNvSpPr/>
            <p:nvPr/>
          </p:nvSpPr>
          <p:spPr>
            <a:xfrm>
              <a:off x="700200" y="3484440"/>
              <a:ext cx="1474560" cy="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Straight Connector 43"/>
            <p:cNvSpPr/>
            <p:nvPr/>
          </p:nvSpPr>
          <p:spPr>
            <a:xfrm flipV="1">
              <a:off x="2160720" y="2133000"/>
              <a:ext cx="0" cy="136692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44"/>
            <p:cNvSpPr/>
            <p:nvPr/>
          </p:nvSpPr>
          <p:spPr>
            <a:xfrm>
              <a:off x="744480" y="2479680"/>
              <a:ext cx="1379520" cy="974520"/>
            </a:xfrm>
            <a:prstGeom prst="rect">
              <a:avLst/>
            </a:prstGeom>
            <a:solidFill>
              <a:srgbClr val="c4efff"/>
            </a:solidFill>
            <a:ln w="25560">
              <a:solidFill>
                <a:srgbClr val="c4e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45"/>
            <p:cNvSpPr/>
            <p:nvPr/>
          </p:nvSpPr>
          <p:spPr>
            <a:xfrm>
              <a:off x="1403280" y="1903320"/>
              <a:ext cx="288720" cy="1368360"/>
            </a:xfrm>
            <a:prstGeom prst="rect">
              <a:avLst/>
            </a:prstGeom>
            <a:solidFill>
              <a:srgbClr val="91c6f7"/>
            </a:solidFill>
            <a:ln w="25560">
              <a:solidFill>
                <a:srgbClr val="91c6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Box 28"/>
            <p:cNvSpPr/>
            <p:nvPr/>
          </p:nvSpPr>
          <p:spPr>
            <a:xfrm>
              <a:off x="1548000" y="2328120"/>
              <a:ext cx="14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Box 29"/>
            <p:cNvSpPr/>
            <p:nvPr/>
          </p:nvSpPr>
          <p:spPr>
            <a:xfrm>
              <a:off x="1692000" y="2427120"/>
              <a:ext cx="2876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Straight Connector 48"/>
            <p:cNvSpPr/>
            <p:nvPr/>
          </p:nvSpPr>
          <p:spPr>
            <a:xfrm>
              <a:off x="1717560" y="2489040"/>
              <a:ext cx="0" cy="772920"/>
            </a:xfrm>
            <a:prstGeom prst="line">
              <a:avLst/>
            </a:prstGeom>
            <a:ln w="22320">
              <a:solidFill>
                <a:srgbClr val="0349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34"/>
            <p:cNvSpPr/>
            <p:nvPr/>
          </p:nvSpPr>
          <p:spPr>
            <a:xfrm>
              <a:off x="696600" y="3055320"/>
              <a:ext cx="556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n</a:t>
              </a:r>
              <a:r>
                <a:rPr b="0" lang="en-US" sz="1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5" name="Straight Arrow Connector 50"/>
            <p:cNvCxnSpPr/>
            <p:nvPr/>
          </p:nvCxnSpPr>
          <p:spPr>
            <a:xfrm flipH="1">
              <a:off x="970920" y="2766960"/>
              <a:ext cx="432360" cy="289440"/>
            </a:xfrm>
            <a:prstGeom prst="straightConnector1">
              <a:avLst/>
            </a:prstGeom>
            <a:ln w="9360">
              <a:solidFill>
                <a:srgbClr val="03495c"/>
              </a:solidFill>
              <a:miter/>
              <a:tailEnd len="med" type="arrow" w="med"/>
            </a:ln>
          </p:spPr>
        </p:cxnSp>
        <p:cxnSp>
          <p:nvCxnSpPr>
            <p:cNvPr id="926" name="Straight Arrow Connector 51"/>
            <p:cNvCxnSpPr/>
            <p:nvPr/>
          </p:nvCxnSpPr>
          <p:spPr>
            <a:xfrm flipV="1">
              <a:off x="1115640" y="2695320"/>
              <a:ext cx="216360" cy="144720"/>
            </a:xfrm>
            <a:prstGeom prst="straightConnector1">
              <a:avLst/>
            </a:prstGeom>
            <a:ln w="9360">
              <a:solidFill>
                <a:srgbClr val="03495c"/>
              </a:solidFill>
              <a:miter/>
              <a:tailEnd len="med" type="arrow" w="med"/>
            </a:ln>
          </p:spPr>
        </p:cxnSp>
        <p:sp>
          <p:nvSpPr>
            <p:cNvPr id="927" name="Rectangle 40"/>
            <p:cNvSpPr/>
            <p:nvPr/>
          </p:nvSpPr>
          <p:spPr>
            <a:xfrm>
              <a:off x="1334520" y="1832040"/>
              <a:ext cx="392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Rectangle 42"/>
          <p:cNvSpPr/>
          <p:nvPr/>
        </p:nvSpPr>
        <p:spPr>
          <a:xfrm>
            <a:off x="2272680" y="1700280"/>
            <a:ext cx="214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Straight Arrow Connector 54"/>
          <p:cNvCxnSpPr/>
          <p:nvPr/>
        </p:nvCxnSpPr>
        <p:spPr>
          <a:xfrm flipH="1">
            <a:off x="1691640" y="2060640"/>
            <a:ext cx="8643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0" name="TextBox 46"/>
          <p:cNvSpPr/>
          <p:nvPr/>
        </p:nvSpPr>
        <p:spPr>
          <a:xfrm>
            <a:off x="2252520" y="6004080"/>
            <a:ext cx="42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= Е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Box 1"/>
          <p:cNvSpPr/>
          <p:nvPr/>
        </p:nvSpPr>
        <p:spPr>
          <a:xfrm>
            <a:off x="2627280" y="10335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нстова једна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"/>
          <p:cNvSpPr/>
          <p:nvPr/>
        </p:nvSpPr>
        <p:spPr>
          <a:xfrm>
            <a:off x="182520" y="1652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ки израз за електродни потенцијал назива с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нстова једнач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3"/>
          <p:cNvSpPr/>
          <p:nvPr/>
        </p:nvSpPr>
        <p:spPr>
          <a:xfrm>
            <a:off x="182520" y="2565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нстова једначина за општи случај полуре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5"/>
          <p:cNvSpPr/>
          <p:nvPr/>
        </p:nvSpPr>
        <p:spPr>
          <a:xfrm>
            <a:off x="2556000" y="3141720"/>
            <a:ext cx="31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  +  n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Straight Arrow Connector 7"/>
          <p:cNvCxnSpPr/>
          <p:nvPr/>
        </p:nvCxnSpPr>
        <p:spPr>
          <a:xfrm>
            <a:off x="3995280" y="3284280"/>
            <a:ext cx="50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6" name="Straight Arrow Connector 8"/>
          <p:cNvCxnSpPr/>
          <p:nvPr/>
        </p:nvCxnSpPr>
        <p:spPr>
          <a:xfrm flipH="1">
            <a:off x="3994920" y="3428640"/>
            <a:ext cx="50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937" name="Object 4"/>
          <p:cNvGraphicFramePr/>
          <p:nvPr/>
        </p:nvGraphicFramePr>
        <p:xfrm>
          <a:off x="395280" y="3716280"/>
          <a:ext cx="259236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716280"/>
                    <a:ext cx="2592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Object 5"/>
          <p:cNvGraphicFramePr/>
          <p:nvPr/>
        </p:nvGraphicFramePr>
        <p:xfrm>
          <a:off x="3924360" y="3716280"/>
          <a:ext cx="319392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716280"/>
                    <a:ext cx="31939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TextBox 13"/>
          <p:cNvSpPr/>
          <p:nvPr/>
        </p:nvSpPr>
        <p:spPr>
          <a:xfrm>
            <a:off x="7596360" y="4005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ight Arrow 12"/>
          <p:cNvSpPr/>
          <p:nvPr/>
        </p:nvSpPr>
        <p:spPr>
          <a:xfrm>
            <a:off x="3276720" y="4076640"/>
            <a:ext cx="358560" cy="144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5"/>
          <p:cNvSpPr/>
          <p:nvPr/>
        </p:nvSpPr>
        <p:spPr>
          <a:xfrm>
            <a:off x="108000" y="4802040"/>
            <a:ext cx="88200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андардни електродн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универзална гасна константа (R = 8,314 J/K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– термодинамичка температура 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– Фарадејева константа (F ≈ 96500 С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број размењених елект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ктивитети оксидованог и редукованог облика супстанце у раст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"/>
          <p:cNvSpPr/>
          <p:nvPr/>
        </p:nvSpPr>
        <p:spPr>
          <a:xfrm>
            <a:off x="2303640" y="10206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ација и реду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182520" y="1590840"/>
            <a:ext cx="88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оксидо-редукције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реакциј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у реакције у којима долази до размене електрона између реагујућих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3810600" y="22795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250920" y="429732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KО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А ЕЛЕKТРО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KСИД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395280" y="5211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1619280" y="573264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отпуштање електр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4572000" y="429732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KО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 ЕЛЕKТРО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ЕДУK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1"/>
          <p:cNvSpPr/>
          <p:nvPr/>
        </p:nvSpPr>
        <p:spPr>
          <a:xfrm>
            <a:off x="4643280" y="5211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12"/>
          <p:cNvSpPr/>
          <p:nvPr/>
        </p:nvSpPr>
        <p:spPr>
          <a:xfrm>
            <a:off x="1835280" y="6165720"/>
            <a:ext cx="46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 примање е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Curved Down Arrow 12"/>
          <p:cNvSpPr/>
          <p:nvPr/>
        </p:nvSpPr>
        <p:spPr>
          <a:xfrm>
            <a:off x="3419640" y="2728800"/>
            <a:ext cx="1223640" cy="268560"/>
          </a:xfrm>
          <a:custGeom>
            <a:avLst/>
            <a:gdLst>
              <a:gd name="textAreaLeft" fmla="*/ 280800 w 1223640"/>
              <a:gd name="textAreaRight" fmla="*/ 909360 w 1223640"/>
              <a:gd name="textAreaTop" fmla="*/ 36000 h 268560"/>
              <a:gd name="textAreaBottom" fmla="*/ 2325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3" hR="21600" stAng="10800000" swAng="5400000"/>
                <a:lnTo>
                  <a:pt x="11096" y="0"/>
                </a:lnTo>
                <a:arcTo wR="9913" hR="21600" stAng="-5400000" swAng="3638188"/>
                <a:lnTo>
                  <a:pt x="21285" y="16200"/>
                </a:lnTo>
                <a:lnTo>
                  <a:pt x="20417" y="21600"/>
                </a:lnTo>
                <a:lnTo>
                  <a:pt x="18918" y="16200"/>
                </a:lnTo>
                <a:lnTo>
                  <a:pt x="19510" y="16200"/>
                </a:lnTo>
                <a:arcTo wR="9913" hR="21600" stAng="-1761812" swAng="-3543904"/>
                <a:lnTo>
                  <a:pt x="10504" y="38"/>
                </a:lnTo>
                <a:arcTo wR="9913" hR="21600" stAng="-5494285" swAng="-5305715"/>
                <a:close/>
              </a:path>
              <a:path fill="darkenLess" w="21600" h="21600">
                <a:moveTo>
                  <a:pt x="0" y="21600"/>
                </a:moveTo>
                <a:arcTo wR="9913" hR="21600" stAng="10800000" swAng="5400000"/>
                <a:lnTo>
                  <a:pt x="9913" y="0"/>
                </a:lnTo>
                <a:arcTo wR="9913" hR="21600" stAng="-5400000" swAng="94285"/>
                <a:lnTo>
                  <a:pt x="10504" y="38"/>
                </a:lnTo>
                <a:arcTo wR="9913" hR="21600" stAng="-5494285" swAng="-5305715"/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Down Arrow 13"/>
          <p:cNvSpPr/>
          <p:nvPr/>
        </p:nvSpPr>
        <p:spPr>
          <a:xfrm>
            <a:off x="1763640" y="498312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own Arrow 14"/>
          <p:cNvSpPr/>
          <p:nvPr/>
        </p:nvSpPr>
        <p:spPr>
          <a:xfrm>
            <a:off x="6156360" y="498312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16" descr="C:\Users\Maca\Desktop\I ned AH\250px-Potassium-permanganate-sample.jpg"/>
          <p:cNvPicPr/>
          <p:nvPr/>
        </p:nvPicPr>
        <p:blipFill>
          <a:blip r:embed="rId1"/>
          <a:stretch/>
        </p:blipFill>
        <p:spPr>
          <a:xfrm>
            <a:off x="4264200" y="3108240"/>
            <a:ext cx="1244520" cy="10288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7" descr="C:\Users\Maca\Desktop\I ned AH\Sodium_metabisulfite.jpg"/>
          <p:cNvPicPr/>
          <p:nvPr/>
        </p:nvPicPr>
        <p:blipFill>
          <a:blip r:embed="rId2"/>
          <a:stretch/>
        </p:blipFill>
        <p:spPr>
          <a:xfrm>
            <a:off x="2484360" y="3108240"/>
            <a:ext cx="121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Box 1"/>
          <p:cNvSpPr/>
          <p:nvPr/>
        </p:nvSpPr>
        <p:spPr>
          <a:xfrm>
            <a:off x="395280" y="10144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 активитета за разблажене растворе користе се концентрац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Object 5"/>
          <p:cNvGraphicFramePr/>
          <p:nvPr/>
        </p:nvGraphicFramePr>
        <p:xfrm>
          <a:off x="2340000" y="2087640"/>
          <a:ext cx="344160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87640"/>
                    <a:ext cx="34416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7" name="TextBox 3"/>
          <p:cNvSpPr/>
          <p:nvPr/>
        </p:nvSpPr>
        <p:spPr>
          <a:xfrm>
            <a:off x="108000" y="3213000"/>
            <a:ext cx="9360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 је начин израчунавања електродног потенцијала различитих редокс па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4"/>
          <p:cNvSpPr/>
          <p:nvPr/>
        </p:nvSpPr>
        <p:spPr>
          <a:xfrm>
            <a:off x="395280" y="42908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2"/>
          <p:cNvSpPr/>
          <p:nvPr/>
        </p:nvSpPr>
        <p:spPr>
          <a:xfrm>
            <a:off x="3172320" y="42919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⇆ Ag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3"/>
              <p:cNvSpPr txBox="1"/>
              <p:nvPr/>
            </p:nvSpPr>
            <p:spPr>
              <a:xfrm>
                <a:off x="2700360" y="5013360"/>
                <a:ext cx="3875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p>
                        <m:sSub>
                          <m:e>
                            <m:r>
                              <m:t xml:space="preserve">∘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/ Ag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log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51" name="Object 4"/>
          <p:cNvGraphicFramePr/>
          <p:nvPr/>
        </p:nvGraphicFramePr>
        <p:xfrm>
          <a:off x="2700360" y="6021360"/>
          <a:ext cx="41752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6021360"/>
                    <a:ext cx="417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2"/>
          <p:cNvSpPr/>
          <p:nvPr/>
        </p:nvSpPr>
        <p:spPr>
          <a:xfrm>
            <a:off x="468360" y="11970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"/>
          <p:cNvSpPr/>
          <p:nvPr/>
        </p:nvSpPr>
        <p:spPr>
          <a:xfrm>
            <a:off x="3284640" y="119808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Object 3"/>
              <p:cNvSpPr txBox="1"/>
              <p:nvPr/>
            </p:nvSpPr>
            <p:spPr>
              <a:xfrm>
                <a:off x="2195640" y="2133720"/>
                <a:ext cx="40845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p>
                        <m:sSub>
                          <m:e>
                            <m:r>
                              <m:t xml:space="preserve">∘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 F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log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8" name="TextBox 6"/>
          <p:cNvSpPr/>
          <p:nvPr/>
        </p:nvSpPr>
        <p:spPr>
          <a:xfrm>
            <a:off x="446040" y="3556080"/>
            <a:ext cx="24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"/>
          <p:cNvSpPr/>
          <p:nvPr/>
        </p:nvSpPr>
        <p:spPr>
          <a:xfrm>
            <a:off x="2894040" y="3531960"/>
            <a:ext cx="522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4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7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Object 5"/>
              <p:cNvSpPr txBox="1"/>
              <p:nvPr/>
            </p:nvSpPr>
            <p:spPr>
              <a:xfrm>
                <a:off x="1652760" y="4784760"/>
                <a:ext cx="56037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p>
                        <m:sSub>
                          <m:e>
                            <m:r>
                              <m:t xml:space="preserve">∘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 C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log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1" descr=""/>
          <p:cNvPicPr/>
          <p:nvPr/>
        </p:nvPicPr>
        <p:blipFill>
          <a:blip r:embed="rId1"/>
          <a:srcRect l="32574" t="23253" r="25015" b="17687"/>
          <a:stretch/>
        </p:blipFill>
        <p:spPr>
          <a:xfrm>
            <a:off x="6078600" y="2738520"/>
            <a:ext cx="2906640" cy="227484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1"/>
          <p:cNvSpPr/>
          <p:nvPr/>
        </p:nvSpPr>
        <p:spPr>
          <a:xfrm>
            <a:off x="971640" y="9684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а водонична електрода (SHE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"/>
          <p:cNvSpPr/>
          <p:nvPr/>
        </p:nvSpPr>
        <p:spPr>
          <a:xfrm>
            <a:off x="2885400" y="1628640"/>
            <a:ext cx="3152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"/>
          <p:cNvSpPr/>
          <p:nvPr/>
        </p:nvSpPr>
        <p:spPr>
          <a:xfrm>
            <a:off x="196920" y="2124000"/>
            <a:ext cx="891216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ча, превучена танким слоје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њена у раствор киселине чији је активитет једнак 1, кроз који се пропушта гасови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тандардним условим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H+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 t =25º, 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1,325 kPa = 1 ba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5"/>
          <p:cNvSpPr/>
          <p:nvPr/>
        </p:nvSpPr>
        <p:spPr>
          <a:xfrm>
            <a:off x="243000" y="6035760"/>
            <a:ext cx="49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договор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sr-R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0,0</a:t>
            </a: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им температур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6"/>
          <p:cNvSpPr/>
          <p:nvPr/>
        </p:nvSpPr>
        <p:spPr>
          <a:xfrm>
            <a:off x="219240" y="4869000"/>
            <a:ext cx="886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размена електрона врши преко Pt, потенцијал који платина има је електродни потенцијал водоничне електроде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 водоничне електрод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само од активитета водоничних јона у раство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Object 8"/>
          <p:cNvGraphicFramePr/>
          <p:nvPr/>
        </p:nvGraphicFramePr>
        <p:xfrm>
          <a:off x="5580000" y="6164280"/>
          <a:ext cx="232092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6164280"/>
                    <a:ext cx="23209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Object 9"/>
          <p:cNvGraphicFramePr/>
          <p:nvPr/>
        </p:nvGraphicFramePr>
        <p:xfrm>
          <a:off x="395280" y="3645000"/>
          <a:ext cx="5186520" cy="84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645000"/>
                    <a:ext cx="51865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Box 1"/>
          <p:cNvSpPr/>
          <p:nvPr/>
        </p:nvSpPr>
        <p:spPr>
          <a:xfrm>
            <a:off x="176364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ење електродног потенц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2"/>
          <p:cNvSpPr/>
          <p:nvPr/>
        </p:nvSpPr>
        <p:spPr>
          <a:xfrm>
            <a:off x="182520" y="17096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који се јавља између метала и раствора не може се директно мерити, али се може мерити разлика потенцијала између две електр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179280" y="29098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разлика потенцијала између две електроде назива се електромоторна сила ћелије (EM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6"/>
          <p:cNvSpPr/>
          <p:nvPr/>
        </p:nvSpPr>
        <p:spPr>
          <a:xfrm>
            <a:off x="1358280" y="3933720"/>
            <a:ext cx="21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 = 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5651640" y="3679920"/>
            <a:ext cx="302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да чији се потенцијал одређу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5"/>
          <p:cNvSpPr/>
          <p:nvPr/>
        </p:nvSpPr>
        <p:spPr>
          <a:xfrm>
            <a:off x="179280" y="4869000"/>
            <a:ext cx="84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једна (лева) електрода SHE (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 V), а друга (десна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 она чији потенцијал одређујемо, EMS се дефинише као електродни потенцијал посматране електр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8"/>
          <p:cNvSpPr/>
          <p:nvPr/>
        </p:nvSpPr>
        <p:spPr>
          <a:xfrm>
            <a:off x="1474920" y="6237360"/>
            <a:ext cx="50767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 = 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H+/H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,0 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8"/>
          <p:cNvSpPr/>
          <p:nvPr/>
        </p:nvSpPr>
        <p:spPr>
          <a:xfrm>
            <a:off x="1403280" y="981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 електродни потенциј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179280" y="2205000"/>
            <a:ext cx="864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лева електрода SHE (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 V), а десну електроду чини редокс пар чији потенцијал меримо при стандардним условима (активитет метала једнак је 1), измерена EMS биће стандардна EMS и представљаће стандардни електродни потенцијал те електро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1476360" y="4005360"/>
            <a:ext cx="50767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H+/H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,0 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179280" y="5013360"/>
            <a:ext cx="851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 електродни потенција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основна карактеристика оксидационо-редукционих особина сваког редокс па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4892760" y="5486400"/>
            <a:ext cx="421632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а, стандардна Cu електр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сна електрод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           Cu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4"/>
          <p:cNvSpPr/>
          <p:nvPr/>
        </p:nvSpPr>
        <p:spPr>
          <a:xfrm>
            <a:off x="351720" y="5486400"/>
            <a:ext cx="2792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а, SH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ева електрод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             2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q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20760" y="469584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g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936360" y="414180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Curved Down Arrow 7"/>
          <p:cNvSpPr/>
          <p:nvPr/>
        </p:nvSpPr>
        <p:spPr>
          <a:xfrm>
            <a:off x="760320" y="4479840"/>
            <a:ext cx="793800" cy="216000"/>
          </a:xfrm>
          <a:custGeom>
            <a:avLst/>
            <a:gdLst>
              <a:gd name="textAreaLeft" fmla="*/ 178200 w 793800"/>
              <a:gd name="textAreaRight" fmla="*/ 588600 w 7938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9" hR="21600" stAng="10800000" swAng="5400000"/>
                <a:lnTo>
                  <a:pt x="11167" y="0"/>
                </a:lnTo>
                <a:arcTo wR="9699" hR="21600" stAng="-5400000" swAng="3605944"/>
                <a:lnTo>
                  <a:pt x="21292" y="16200"/>
                </a:lnTo>
                <a:lnTo>
                  <a:pt x="20131" y="21600"/>
                </a:lnTo>
                <a:lnTo>
                  <a:pt x="18354" y="16200"/>
                </a:lnTo>
                <a:lnTo>
                  <a:pt x="19089" y="16200"/>
                </a:lnTo>
                <a:arcTo wR="9699" hR="21600" stAng="-1794056" swAng="-3488833"/>
                <a:lnTo>
                  <a:pt x="10433" y="62"/>
                </a:lnTo>
                <a:arcTo wR="9699" hR="21600" stAng="-5517110" swAng="-5282890"/>
                <a:close/>
              </a:path>
              <a:path fill="darkenLess" w="21600" h="21600">
                <a:moveTo>
                  <a:pt x="0" y="21600"/>
                </a:moveTo>
                <a:arcTo wR="9699" hR="21600" stAng="10800000" swAng="5400000"/>
                <a:lnTo>
                  <a:pt x="9699" y="0"/>
                </a:lnTo>
                <a:arcTo wR="9699" hR="21600" stAng="-5400000" swAng="117110"/>
                <a:lnTo>
                  <a:pt x="10433" y="62"/>
                </a:lnTo>
                <a:arcTo wR="9699" hR="21600" stAng="-5517110" swAng="-528289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8"/>
          <p:cNvSpPr/>
          <p:nvPr/>
        </p:nvSpPr>
        <p:spPr>
          <a:xfrm>
            <a:off x="360360" y="981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 електродни потенцијал Cu елект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9"/>
          <p:cNvSpPr/>
          <p:nvPr/>
        </p:nvSpPr>
        <p:spPr>
          <a:xfrm>
            <a:off x="182520" y="3019320"/>
            <a:ext cx="35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а редокс реакција се одвија с лева на десно, (како је написано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Object 1"/>
          <p:cNvGraphicFramePr/>
          <p:nvPr/>
        </p:nvGraphicFramePr>
        <p:xfrm>
          <a:off x="182520" y="2379600"/>
          <a:ext cx="403848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379600"/>
                    <a:ext cx="40384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91" name="Straight Arrow Connector 11"/>
          <p:cNvCxnSpPr/>
          <p:nvPr/>
        </p:nvCxnSpPr>
        <p:spPr>
          <a:xfrm>
            <a:off x="6156000" y="643068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2" name="Rectangle 12"/>
          <p:cNvSpPr/>
          <p:nvPr/>
        </p:nvSpPr>
        <p:spPr>
          <a:xfrm>
            <a:off x="6137640" y="6100920"/>
            <a:ext cx="6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3" name="Straight Arrow Connector 14"/>
          <p:cNvCxnSpPr/>
          <p:nvPr/>
        </p:nvCxnSpPr>
        <p:spPr>
          <a:xfrm>
            <a:off x="1222200" y="6465600"/>
            <a:ext cx="65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4" name="Rectangle 15"/>
          <p:cNvSpPr/>
          <p:nvPr/>
        </p:nvSpPr>
        <p:spPr>
          <a:xfrm>
            <a:off x="1207440" y="609120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Group 20"/>
          <p:cNvGrpSpPr/>
          <p:nvPr/>
        </p:nvGrpSpPr>
        <p:grpSpPr>
          <a:xfrm>
            <a:off x="4734000" y="2552760"/>
            <a:ext cx="3600360" cy="2343600"/>
            <a:chOff x="4734000" y="2552760"/>
            <a:chExt cx="3600360" cy="2343600"/>
          </a:xfrm>
        </p:grpSpPr>
        <p:pic>
          <p:nvPicPr>
            <p:cNvPr id="996" name="Picture 3" descr=""/>
            <p:cNvPicPr/>
            <p:nvPr/>
          </p:nvPicPr>
          <p:blipFill>
            <a:blip r:embed="rId3"/>
            <a:srcRect l="47236" t="42126" r="20115" b="21457"/>
            <a:stretch/>
          </p:blipFill>
          <p:spPr>
            <a:xfrm>
              <a:off x="4734000" y="2552760"/>
              <a:ext cx="3600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TextBox 18"/>
            <p:cNvSpPr/>
            <p:nvPr/>
          </p:nvSpPr>
          <p:spPr>
            <a:xfrm>
              <a:off x="7614360" y="3232800"/>
              <a:ext cx="648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19"/>
            <p:cNvSpPr/>
            <p:nvPr/>
          </p:nvSpPr>
          <p:spPr>
            <a:xfrm>
              <a:off x="7484760" y="4497480"/>
              <a:ext cx="63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Box 3"/>
          <p:cNvSpPr/>
          <p:nvPr/>
        </p:nvSpPr>
        <p:spPr>
          <a:xfrm>
            <a:off x="205200" y="1514520"/>
            <a:ext cx="86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меримо           бакарне електроде галванска ћелија ће бити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21" descr=""/>
          <p:cNvPicPr/>
          <p:nvPr/>
        </p:nvPicPr>
        <p:blipFill>
          <a:blip r:embed="rId4"/>
          <a:stretch/>
        </p:blipFill>
        <p:spPr>
          <a:xfrm>
            <a:off x="1979640" y="1944720"/>
            <a:ext cx="671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2"/>
          <p:cNvSpPr/>
          <p:nvPr/>
        </p:nvSpPr>
        <p:spPr>
          <a:xfrm>
            <a:off x="4067280" y="2251080"/>
            <a:ext cx="43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а E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 има позитивну вредност и износи + 0,34 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катоде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4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"/>
          <p:cNvSpPr/>
          <p:nvPr/>
        </p:nvSpPr>
        <p:spPr>
          <a:xfrm>
            <a:off x="182520" y="4707000"/>
            <a:ext cx="88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договору, стандардни електродни потенцијал се приказује к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 редукциони потенција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2314440" y="5380200"/>
            <a:ext cx="381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Cu2+/Cu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редукције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+ 0,34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5"/>
          <p:cNvSpPr/>
          <p:nvPr/>
        </p:nvSpPr>
        <p:spPr>
          <a:xfrm>
            <a:off x="182520" y="609300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у одређене вредности стандардних електродних потенцијала свих електрохемијских реа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9"/>
          <p:cNvGrpSpPr/>
          <p:nvPr/>
        </p:nvGrpSpPr>
        <p:grpSpPr>
          <a:xfrm>
            <a:off x="865080" y="1190520"/>
            <a:ext cx="2808360" cy="2013840"/>
            <a:chOff x="865080" y="1190520"/>
            <a:chExt cx="2808360" cy="2013840"/>
          </a:xfrm>
        </p:grpSpPr>
        <p:pic>
          <p:nvPicPr>
            <p:cNvPr id="1006" name="Picture 3" descr=""/>
            <p:cNvPicPr/>
            <p:nvPr/>
          </p:nvPicPr>
          <p:blipFill>
            <a:blip r:embed="rId1"/>
            <a:srcRect l="47236" t="42126" r="20115" b="21457"/>
            <a:stretch/>
          </p:blipFill>
          <p:spPr>
            <a:xfrm>
              <a:off x="865080" y="1190520"/>
              <a:ext cx="2808360" cy="19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TextBox 11"/>
            <p:cNvSpPr/>
            <p:nvPr/>
          </p:nvSpPr>
          <p:spPr>
            <a:xfrm>
              <a:off x="3111840" y="1765800"/>
              <a:ext cx="505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2"/>
            <p:cNvSpPr/>
            <p:nvPr/>
          </p:nvSpPr>
          <p:spPr>
            <a:xfrm>
              <a:off x="3013560" y="2836080"/>
              <a:ext cx="58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Rectangle 7"/>
          <p:cNvSpPr/>
          <p:nvPr/>
        </p:nvSpPr>
        <p:spPr>
          <a:xfrm>
            <a:off x="3816360" y="1596960"/>
            <a:ext cx="50767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H+/H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,0 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154080" y="248616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0,0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4"/>
          <p:cNvSpPr/>
          <p:nvPr/>
        </p:nvSpPr>
        <p:spPr>
          <a:xfrm>
            <a:off x="182520" y="3454560"/>
            <a:ext cx="88567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тече спонтано с лева у десно →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већу тежњу ка отпуштању електрона него Cu →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аче редукционо средство од 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има вишак електрона → (-) елект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електрода има мањак електрона → (+) електрода →             је позити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21" descr=""/>
          <p:cNvPicPr/>
          <p:nvPr/>
        </p:nvPicPr>
        <p:blipFill>
          <a:blip r:embed="rId2"/>
          <a:stretch/>
        </p:blipFill>
        <p:spPr>
          <a:xfrm>
            <a:off x="6659640" y="4378320"/>
            <a:ext cx="6732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1"/>
          <p:cNvSpPr/>
          <p:nvPr/>
        </p:nvSpPr>
        <p:spPr>
          <a:xfrm>
            <a:off x="85320" y="3716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s) →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2416320" y="3728880"/>
            <a:ext cx="22744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а (SH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0,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"/>
          <p:cNvSpPr/>
          <p:nvPr/>
        </p:nvSpPr>
        <p:spPr>
          <a:xfrm>
            <a:off x="7057440" y="378936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M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4961160" y="3789360"/>
            <a:ext cx="21326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а (SH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→ 2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0,0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rcRect l="5808" t="41954" r="62097" b="21629"/>
          <a:stretch/>
        </p:blipFill>
        <p:spPr>
          <a:xfrm>
            <a:off x="539640" y="1197000"/>
            <a:ext cx="3498840" cy="22320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3" descr=""/>
          <p:cNvPicPr/>
          <p:nvPr/>
        </p:nvPicPr>
        <p:blipFill>
          <a:blip r:embed="rId2"/>
          <a:srcRect l="47236" t="42126" r="20115" b="21457"/>
          <a:stretch/>
        </p:blipFill>
        <p:spPr>
          <a:xfrm>
            <a:off x="5003640" y="1197000"/>
            <a:ext cx="356076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9" name=""/>
          <p:cNvGraphicFramePr/>
          <p:nvPr/>
        </p:nvGraphicFramePr>
        <p:xfrm>
          <a:off x="539640" y="5229360"/>
          <a:ext cx="3840120" cy="1137960"/>
        </p:xfrm>
        <a:graphic>
          <a:graphicData uri="http://schemas.openxmlformats.org/drawingml/2006/table">
            <a:tbl>
              <a:tblPr/>
              <a:tblGrid>
                <a:gridCol w="2665440"/>
                <a:gridCol w="11746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он метала/Ме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ө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Z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0" name=""/>
          <p:cNvGraphicFramePr/>
          <p:nvPr/>
        </p:nvGraphicFramePr>
        <p:xfrm>
          <a:off x="4932360" y="5243400"/>
          <a:ext cx="3840120" cy="1138320"/>
        </p:xfrm>
        <a:graphic>
          <a:graphicData uri="http://schemas.openxmlformats.org/drawingml/2006/table">
            <a:tbl>
              <a:tblPr/>
              <a:tblGrid>
                <a:gridCol w="2736720"/>
                <a:gridCol w="110340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он метала/Ме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ө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1"/>
          <p:cNvSpPr/>
          <p:nvPr/>
        </p:nvSpPr>
        <p:spPr>
          <a:xfrm>
            <a:off x="324000" y="1197000"/>
            <a:ext cx="889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бел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дних електродних потенцијала електрохемијских реакц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4" descr=""/>
          <p:cNvPicPr/>
          <p:nvPr/>
        </p:nvPicPr>
        <p:blipFill>
          <a:blip r:embed="rId1"/>
          <a:srcRect l="17130" t="23425" r="25649" b="15551"/>
          <a:stretch/>
        </p:blipFill>
        <p:spPr>
          <a:xfrm>
            <a:off x="900000" y="1989000"/>
            <a:ext cx="74455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Box 1"/>
          <p:cNvSpPr/>
          <p:nvPr/>
        </p:nvSpPr>
        <p:spPr>
          <a:xfrm>
            <a:off x="152280" y="1709640"/>
            <a:ext cx="896148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ан        значи да метал може да оксиду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ан         значи да метал може да редуку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бели стандардних електродних потенцијала редокс парови су поређани по величини њихових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ксидовани облик редокс па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реаговати са  свим редукованим облицима редокс парова који се у табели налазе испод њ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јаче оксидационо средство 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јјача редукциона средства су алкални ме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2050920" y="182880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2050920" y="2193840"/>
            <a:ext cx="54936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252360" y="1003320"/>
            <a:ext cx="856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реакција се састоји из две полуреакције (оксидације и редукције), које се одигравај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ј размењених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ених и примљених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а у једној редокс реакцији мора бити међусобно једнак, пошто 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они електрони у раствору не посто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30"/>
          <p:cNvSpPr/>
          <p:nvPr/>
        </p:nvSpPr>
        <p:spPr>
          <a:xfrm>
            <a:off x="252360" y="3638520"/>
            <a:ext cx="47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R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R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31"/>
          <p:cNvSpPr/>
          <p:nvPr/>
        </p:nvSpPr>
        <p:spPr>
          <a:xfrm>
            <a:off x="252360" y="3565440"/>
            <a:ext cx="863640" cy="74952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32"/>
          <p:cNvSpPr/>
          <p:nvPr/>
        </p:nvSpPr>
        <p:spPr>
          <a:xfrm>
            <a:off x="1368360" y="3486240"/>
            <a:ext cx="900000" cy="8175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33"/>
          <p:cNvSpPr/>
          <p:nvPr/>
        </p:nvSpPr>
        <p:spPr>
          <a:xfrm>
            <a:off x="684360" y="4314960"/>
            <a:ext cx="0" cy="16164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34"/>
          <p:cNvSpPr/>
          <p:nvPr/>
        </p:nvSpPr>
        <p:spPr>
          <a:xfrm flipV="1">
            <a:off x="684360" y="4467240"/>
            <a:ext cx="2463480" cy="936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35"/>
          <p:cNvCxnSpPr/>
          <p:nvPr/>
        </p:nvCxnSpPr>
        <p:spPr>
          <a:xfrm flipV="1">
            <a:off x="3141360" y="4154040"/>
            <a:ext cx="6840" cy="310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772" name="Straight Connector 36"/>
          <p:cNvSpPr/>
          <p:nvPr/>
        </p:nvSpPr>
        <p:spPr>
          <a:xfrm flipV="1">
            <a:off x="1817640" y="3304800"/>
            <a:ext cx="0" cy="18108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37"/>
          <p:cNvSpPr/>
          <p:nvPr/>
        </p:nvSpPr>
        <p:spPr>
          <a:xfrm>
            <a:off x="1817640" y="3305160"/>
            <a:ext cx="261000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4" name="Straight Arrow Connector 38"/>
          <p:cNvCxnSpPr/>
          <p:nvPr/>
        </p:nvCxnSpPr>
        <p:spPr>
          <a:xfrm>
            <a:off x="4427280" y="3305160"/>
            <a:ext cx="1080" cy="334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75" name="TextBox 39"/>
          <p:cNvSpPr/>
          <p:nvPr/>
        </p:nvSpPr>
        <p:spPr>
          <a:xfrm>
            <a:off x="2338560" y="2852640"/>
            <a:ext cx="16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0"/>
          <p:cNvSpPr/>
          <p:nvPr/>
        </p:nvSpPr>
        <p:spPr>
          <a:xfrm>
            <a:off x="1228680" y="4424400"/>
            <a:ext cx="15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ду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42"/>
          <p:cNvSpPr/>
          <p:nvPr/>
        </p:nvSpPr>
        <p:spPr>
          <a:xfrm>
            <a:off x="934920" y="2774880"/>
            <a:ext cx="5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е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3120120" y="50911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3108240" y="5583240"/>
            <a:ext cx="29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1"/>
          <p:cNvSpPr/>
          <p:nvPr/>
        </p:nvSpPr>
        <p:spPr>
          <a:xfrm>
            <a:off x="5208840" y="4067280"/>
            <a:ext cx="362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овани облик чест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овани облик чест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размењених елект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136440" y="6138720"/>
            <a:ext cx="89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приказује прелаз електрона између два оксидацио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  једне исте честице (јона, атома, молеку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rrow: Curved Right 24"/>
          <p:cNvSpPr/>
          <p:nvPr/>
        </p:nvSpPr>
        <p:spPr>
          <a:xfrm rot="5400000">
            <a:off x="1032480" y="2885040"/>
            <a:ext cx="268200" cy="936720"/>
          </a:xfrm>
          <a:custGeom>
            <a:avLst/>
            <a:gdLst>
              <a:gd name="textAreaLeft" fmla="*/ 35640 w 268200"/>
              <a:gd name="textAreaRight" fmla="*/ 232560 w 268200"/>
              <a:gd name="textAreaTop" fmla="*/ 208800 h 936720"/>
              <a:gd name="textAreaBottom" fmla="*/ 69408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40" stAng="-5400000" swAng="-5400000"/>
                <a:lnTo>
                  <a:pt x="0" y="11186"/>
                </a:lnTo>
                <a:arcTo wR="21600" hR="9640" stAng="10800000" swAng="-3596942"/>
                <a:lnTo>
                  <a:pt x="16200" y="21294"/>
                </a:lnTo>
                <a:lnTo>
                  <a:pt x="21600" y="20053"/>
                </a:lnTo>
                <a:lnTo>
                  <a:pt x="16200" y="18200"/>
                </a:lnTo>
                <a:lnTo>
                  <a:pt x="16200" y="18974"/>
                </a:lnTo>
                <a:arcTo wR="21600" hR="9640" stAng="7203058" swAng="3473571"/>
                <a:lnTo>
                  <a:pt x="70" y="10413"/>
                </a:lnTo>
                <a:arcTo wR="21600" hR="9640" stAng="-10676629" swAng="5276629"/>
                <a:close/>
              </a:path>
              <a:path fill="darkenLess" w="21600" h="21600">
                <a:moveTo>
                  <a:pt x="21600" y="0"/>
                </a:moveTo>
                <a:arcTo wR="21600" hR="9640" stAng="-5400000" swAng="-5400000"/>
                <a:lnTo>
                  <a:pt x="0" y="9640"/>
                </a:lnTo>
                <a:arcTo wR="21600" hR="9640" stAng="10800000" swAng="-123371"/>
                <a:lnTo>
                  <a:pt x="70" y="10413"/>
                </a:lnTo>
                <a:arcTo wR="21600" hR="9640" stAng="-10676629" swAng="5276629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614520" y="5019840"/>
            <a:ext cx="21636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1"/>
          <p:cNvSpPr/>
          <p:nvPr/>
        </p:nvSpPr>
        <p:spPr>
          <a:xfrm>
            <a:off x="0" y="1477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стандардних електродних потенцијала представљају меру оксидационе, односно редукционе способности супстанце под стандардним условима; користе се за поређење јачине оксидационих, односно редукционих средста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1619280" y="1008000"/>
            <a:ext cx="59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ациона и редукциона способн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Up Arrow 4"/>
          <p:cNvSpPr/>
          <p:nvPr/>
        </p:nvSpPr>
        <p:spPr>
          <a:xfrm>
            <a:off x="1187280" y="2924280"/>
            <a:ext cx="1440000" cy="383364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"/>
          <p:cNvSpPr/>
          <p:nvPr/>
        </p:nvSpPr>
        <p:spPr>
          <a:xfrm rot="5400000">
            <a:off x="101160" y="4635720"/>
            <a:ext cx="36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ЈА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KСИДАЦИОНОГ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Down Arrow 6"/>
          <p:cNvSpPr/>
          <p:nvPr/>
        </p:nvSpPr>
        <p:spPr>
          <a:xfrm>
            <a:off x="6732720" y="3097080"/>
            <a:ext cx="1295280" cy="35719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5"/>
          <p:cNvSpPr/>
          <p:nvPr/>
        </p:nvSpPr>
        <p:spPr>
          <a:xfrm rot="5400000">
            <a:off x="5696640" y="4453920"/>
            <a:ext cx="33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ЈА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KЦИОНОГ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rcRect l="26839" t="26206" r="33316" b="19656"/>
          <a:stretch/>
        </p:blipFill>
        <p:spPr>
          <a:xfrm>
            <a:off x="2627280" y="3284640"/>
            <a:ext cx="4033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1"/>
          <p:cNvSpPr/>
          <p:nvPr/>
        </p:nvSpPr>
        <p:spPr>
          <a:xfrm>
            <a:off x="395280" y="13730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је вредност Е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итивнија, примање електрона је лакше → јаче оксидационо сре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"/>
          <p:cNvSpPr/>
          <p:nvPr/>
        </p:nvSpPr>
        <p:spPr>
          <a:xfrm>
            <a:off x="395280" y="2565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2e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F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8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3"/>
          <p:cNvSpPr/>
          <p:nvPr/>
        </p:nvSpPr>
        <p:spPr>
          <a:xfrm>
            <a:off x="2195640" y="3284640"/>
            <a:ext cx="48243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ко 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лабо редукционо сред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611280" y="4797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(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3,0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6"/>
          <p:cNvSpPr/>
          <p:nvPr/>
        </p:nvSpPr>
        <p:spPr>
          <a:xfrm>
            <a:off x="2124000" y="5516640"/>
            <a:ext cx="4824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лабо 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ко редукционо сред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1"/>
          <p:cNvSpPr/>
          <p:nvPr/>
        </p:nvSpPr>
        <p:spPr>
          <a:xfrm>
            <a:off x="179280" y="1844640"/>
            <a:ext cx="475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F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87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Cl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3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Br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I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54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5148360" y="1844640"/>
            <a:ext cx="381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А ОKСИДАЦИОНА СПОСОБ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 оксидационог сред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5905440" y="3357720"/>
            <a:ext cx="2185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B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Down Arrow 5"/>
          <p:cNvSpPr/>
          <p:nvPr/>
        </p:nvSpPr>
        <p:spPr>
          <a:xfrm>
            <a:off x="4932360" y="1916280"/>
            <a:ext cx="71280" cy="151272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324000" y="4005360"/>
            <a:ext cx="83516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бром може да оксидује хлори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до хлор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r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лабије оксидационо средство од хл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бром може да оксидује јодидни јон до ј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r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че оксидационо средство од ј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68360" y="5950080"/>
            <a:ext cx="56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l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(s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B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"/>
          <p:cNvSpPr/>
          <p:nvPr/>
        </p:nvSpPr>
        <p:spPr>
          <a:xfrm>
            <a:off x="189000" y="11746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1"/>
          <p:cNvSpPr/>
          <p:nvPr/>
        </p:nvSpPr>
        <p:spPr>
          <a:xfrm>
            <a:off x="2050920" y="1125360"/>
            <a:ext cx="45720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F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87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2e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(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3,04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"/>
          <p:cNvSpPr/>
          <p:nvPr/>
        </p:nvSpPr>
        <p:spPr>
          <a:xfrm>
            <a:off x="324000" y="2492280"/>
            <a:ext cx="40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А ОKСИДАЦИОНА СПОСОБ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 оксидационог сред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3"/>
          <p:cNvSpPr/>
          <p:nvPr/>
        </p:nvSpPr>
        <p:spPr>
          <a:xfrm>
            <a:off x="1091880" y="3645000"/>
            <a:ext cx="241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L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4"/>
          <p:cNvSpPr/>
          <p:nvPr/>
        </p:nvSpPr>
        <p:spPr>
          <a:xfrm>
            <a:off x="5003640" y="249228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РЕДУKЦИОНА СПОСОБ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 редукционог сред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"/>
          <p:cNvSpPr/>
          <p:nvPr/>
        </p:nvSpPr>
        <p:spPr>
          <a:xfrm>
            <a:off x="5820840" y="3645000"/>
            <a:ext cx="2164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&gt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Cu &gt; 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"/>
          <p:cNvSpPr/>
          <p:nvPr/>
        </p:nvSpPr>
        <p:spPr>
          <a:xfrm>
            <a:off x="179280" y="4292640"/>
            <a:ext cx="8785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бакар може да реду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 до водоника (истисне водоник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лабије редукционо средство од водо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литијум може да реду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до бакра (истисне бакар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че редукционо средство од бак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7"/>
          <p:cNvSpPr/>
          <p:nvPr/>
        </p:nvSpPr>
        <p:spPr>
          <a:xfrm>
            <a:off x="1979640" y="6165720"/>
            <a:ext cx="53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Li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u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u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s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Li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"/>
          <p:cNvSpPr/>
          <p:nvPr/>
        </p:nvSpPr>
        <p:spPr>
          <a:xfrm>
            <a:off x="179280" y="1484280"/>
            <a:ext cx="88934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оторна сила представља разлику потенцијала две полућелије (тј. две полуреакциј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као разлика стандардних електродних потенцијала оксидационог и редукционог сред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430200" y="981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рачунавање електромоторне силе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059280" y="2997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1906560" y="362916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s) + Cu</a:t>
            </a:r>
            <a:r>
              <a:rPr b="0" lang="pl-PL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→ Zn</a:t>
            </a:r>
            <a:r>
              <a:rPr b="0" lang="pl-PL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Cu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5"/>
          <p:cNvSpPr/>
          <p:nvPr/>
        </p:nvSpPr>
        <p:spPr>
          <a:xfrm>
            <a:off x="1906560" y="394344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6"/>
          <p:cNvSpPr/>
          <p:nvPr/>
        </p:nvSpPr>
        <p:spPr>
          <a:xfrm>
            <a:off x="3057480" y="39434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"/>
          <p:cNvSpPr/>
          <p:nvPr/>
        </p:nvSpPr>
        <p:spPr>
          <a:xfrm>
            <a:off x="1401840" y="444816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         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n/Zn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.S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0,7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8"/>
          <p:cNvSpPr/>
          <p:nvPr/>
        </p:nvSpPr>
        <p:spPr>
          <a:xfrm>
            <a:off x="609480" y="44481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9"/>
          <p:cNvSpPr/>
          <p:nvPr/>
        </p:nvSpPr>
        <p:spPr>
          <a:xfrm>
            <a:off x="4065480" y="4879800"/>
            <a:ext cx="39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u)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S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34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0"/>
          <p:cNvSpPr/>
          <p:nvPr/>
        </p:nvSpPr>
        <p:spPr>
          <a:xfrm>
            <a:off x="1424520" y="5095800"/>
            <a:ext cx="207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Cu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11"/>
          <p:cNvSpPr/>
          <p:nvPr/>
        </p:nvSpPr>
        <p:spPr>
          <a:xfrm>
            <a:off x="609480" y="50958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57120" y="574344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34 – (–0,76) = 1,1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5938920" y="5384880"/>
            <a:ext cx="2689200" cy="145080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14"/>
          <p:cNvSpPr/>
          <p:nvPr/>
        </p:nvSpPr>
        <p:spPr>
          <a:xfrm>
            <a:off x="1917360" y="4303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2003040" y="4952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Straight Arrow Connector 17"/>
          <p:cNvCxnSpPr/>
          <p:nvPr/>
        </p:nvCxnSpPr>
        <p:spPr>
          <a:xfrm>
            <a:off x="1906560" y="466380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8" name="Straight Arrow Connector 19"/>
          <p:cNvCxnSpPr/>
          <p:nvPr/>
        </p:nvCxnSpPr>
        <p:spPr>
          <a:xfrm>
            <a:off x="2122560" y="531144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9" name="Rectangle 2"/>
          <p:cNvSpPr/>
          <p:nvPr/>
        </p:nvSpPr>
        <p:spPr>
          <a:xfrm>
            <a:off x="187560" y="33973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5938920" y="364500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1"/>
          <p:cNvSpPr/>
          <p:nvPr/>
        </p:nvSpPr>
        <p:spPr>
          <a:xfrm>
            <a:off x="2268360" y="1268280"/>
            <a:ext cx="525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s) + 2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→ Z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"/>
          <p:cNvSpPr/>
          <p:nvPr/>
        </p:nvSpPr>
        <p:spPr>
          <a:xfrm>
            <a:off x="1281240" y="2276640"/>
            <a:ext cx="181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          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1282320" y="2779560"/>
            <a:ext cx="1992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4356000" y="2276640"/>
            <a:ext cx="457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n/Zn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ө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0,7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4356000" y="2781360"/>
            <a:ext cx="358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= 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ө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324000" y="4091040"/>
            <a:ext cx="52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 – (–0,76) = 0,76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8"/>
          <p:cNvSpPr/>
          <p:nvPr/>
        </p:nvSpPr>
        <p:spPr>
          <a:xfrm>
            <a:off x="324000" y="227664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9"/>
          <p:cNvSpPr/>
          <p:nvPr/>
        </p:nvSpPr>
        <p:spPr>
          <a:xfrm>
            <a:off x="324000" y="27795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10"/>
          <p:cNvSpPr/>
          <p:nvPr/>
        </p:nvSpPr>
        <p:spPr>
          <a:xfrm>
            <a:off x="2340000" y="1701720"/>
            <a:ext cx="7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11"/>
          <p:cNvSpPr/>
          <p:nvPr/>
        </p:nvSpPr>
        <p:spPr>
          <a:xfrm>
            <a:off x="3276720" y="170028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1" name="Straight Arrow Connector 14"/>
          <p:cNvCxnSpPr/>
          <p:nvPr/>
        </p:nvCxnSpPr>
        <p:spPr>
          <a:xfrm>
            <a:off x="1763280" y="249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2" name="Rectangle 15"/>
          <p:cNvSpPr/>
          <p:nvPr/>
        </p:nvSpPr>
        <p:spPr>
          <a:xfrm>
            <a:off x="1805040" y="21337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3" name="Straight Arrow Connector 17"/>
          <p:cNvCxnSpPr/>
          <p:nvPr/>
        </p:nvCxnSpPr>
        <p:spPr>
          <a:xfrm>
            <a:off x="1908000" y="299700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4" name="Rectangle 19"/>
          <p:cNvSpPr/>
          <p:nvPr/>
        </p:nvSpPr>
        <p:spPr>
          <a:xfrm>
            <a:off x="1843560" y="2637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2"/>
          <p:cNvSpPr/>
          <p:nvPr/>
        </p:nvSpPr>
        <p:spPr>
          <a:xfrm>
            <a:off x="184320" y="5661000"/>
            <a:ext cx="85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е не зависе од стехиометриј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ата, нити од броја размењених елект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1"/>
          <p:cNvSpPr/>
          <p:nvPr/>
        </p:nvSpPr>
        <p:spPr>
          <a:xfrm>
            <a:off x="1619280" y="1341360"/>
            <a:ext cx="595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M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1364400" y="253512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1224000" y="30686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5508720" y="249228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7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5435640" y="314172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51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6"/>
          <p:cNvSpPr/>
          <p:nvPr/>
        </p:nvSpPr>
        <p:spPr>
          <a:xfrm>
            <a:off x="611280" y="3933720"/>
            <a:ext cx="727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5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755640" y="4653000"/>
            <a:ext cx="53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.С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.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1,51 – 0,77 = 0,7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8"/>
          <p:cNvSpPr/>
          <p:nvPr/>
        </p:nvSpPr>
        <p:spPr>
          <a:xfrm>
            <a:off x="324000" y="25369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9"/>
          <p:cNvSpPr/>
          <p:nvPr/>
        </p:nvSpPr>
        <p:spPr>
          <a:xfrm>
            <a:off x="250920" y="3040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0"/>
          <p:cNvSpPr/>
          <p:nvPr/>
        </p:nvSpPr>
        <p:spPr>
          <a:xfrm>
            <a:off x="1692360" y="177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11"/>
          <p:cNvSpPr/>
          <p:nvPr/>
        </p:nvSpPr>
        <p:spPr>
          <a:xfrm>
            <a:off x="2556000" y="177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12"/>
          <p:cNvSpPr/>
          <p:nvPr/>
        </p:nvSpPr>
        <p:spPr>
          <a:xfrm>
            <a:off x="250920" y="5516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е не зависе од стехиометриј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ата, нити од броја размењених елект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Straight Arrow Connector 14"/>
          <p:cNvCxnSpPr/>
          <p:nvPr/>
        </p:nvCxnSpPr>
        <p:spPr>
          <a:xfrm>
            <a:off x="2050560" y="278100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9" name="Rectangle 15"/>
          <p:cNvSpPr/>
          <p:nvPr/>
        </p:nvSpPr>
        <p:spPr>
          <a:xfrm>
            <a:off x="2033640" y="2390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6"/>
          <p:cNvSpPr/>
          <p:nvPr/>
        </p:nvSpPr>
        <p:spPr>
          <a:xfrm>
            <a:off x="2054160" y="2997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Straight Arrow Connector 18"/>
          <p:cNvCxnSpPr/>
          <p:nvPr/>
        </p:nvCxnSpPr>
        <p:spPr>
          <a:xfrm>
            <a:off x="1979640" y="335736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1"/>
          <p:cNvSpPr/>
          <p:nvPr/>
        </p:nvSpPr>
        <p:spPr>
          <a:xfrm>
            <a:off x="1476360" y="1052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виђање правц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едокс реакциј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2" descr=""/>
          <p:cNvPicPr/>
          <p:nvPr/>
        </p:nvPicPr>
        <p:blipFill>
          <a:blip r:embed="rId1"/>
          <a:stretch/>
        </p:blipFill>
        <p:spPr>
          <a:xfrm>
            <a:off x="5796000" y="1844640"/>
            <a:ext cx="1803240" cy="816120"/>
          </a:xfrm>
          <a:prstGeom prst="rect">
            <a:avLst/>
          </a:prstGeom>
          <a:ln w="0">
            <a:noFill/>
          </a:ln>
        </p:spPr>
      </p:pic>
      <p:sp>
        <p:nvSpPr>
          <p:cNvPr id="1104" name="Rectangle 3"/>
          <p:cNvSpPr/>
          <p:nvPr/>
        </p:nvSpPr>
        <p:spPr>
          <a:xfrm>
            <a:off x="611280" y="1989000"/>
            <a:ext cx="408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4"/>
          <p:cNvSpPr/>
          <p:nvPr/>
        </p:nvSpPr>
        <p:spPr>
          <a:xfrm>
            <a:off x="176040" y="2637000"/>
            <a:ext cx="84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 између редокс парова применом Нерстове једначине може 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ти ка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Object 5"/>
          <p:cNvGraphicFramePr/>
          <p:nvPr/>
        </p:nvGraphicFramePr>
        <p:xfrm>
          <a:off x="1835280" y="3357720"/>
          <a:ext cx="4400280" cy="12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357720"/>
                    <a:ext cx="440028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8" name="TextBox 6"/>
          <p:cNvSpPr/>
          <p:nvPr/>
        </p:nvSpPr>
        <p:spPr>
          <a:xfrm>
            <a:off x="261720" y="501336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равнотеже је                             сл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9" name="Object 7"/>
          <p:cNvGraphicFramePr/>
          <p:nvPr/>
        </p:nvGraphicFramePr>
        <p:xfrm>
          <a:off x="3106800" y="4869000"/>
          <a:ext cx="1536480" cy="74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06800" y="4869000"/>
                    <a:ext cx="153648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Object 8"/>
          <p:cNvGraphicFramePr/>
          <p:nvPr/>
        </p:nvGraphicFramePr>
        <p:xfrm>
          <a:off x="700200" y="5877000"/>
          <a:ext cx="486720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200" y="5877000"/>
                    <a:ext cx="4867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3" name="Object 4"/>
          <p:cNvGraphicFramePr/>
          <p:nvPr/>
        </p:nvGraphicFramePr>
        <p:xfrm>
          <a:off x="395280" y="2349360"/>
          <a:ext cx="55468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5546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TextBox 5"/>
          <p:cNvSpPr/>
          <p:nvPr/>
        </p:nvSpPr>
        <p:spPr>
          <a:xfrm>
            <a:off x="349920" y="170028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је спонтана, равнотежа померена на десну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6"/>
          <p:cNvSpPr/>
          <p:nvPr/>
        </p:nvSpPr>
        <p:spPr>
          <a:xfrm>
            <a:off x="396000" y="98100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в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9"/>
          <p:cNvSpPr/>
          <p:nvPr/>
        </p:nvSpPr>
        <p:spPr>
          <a:xfrm>
            <a:off x="345960" y="3105000"/>
            <a:ext cx="83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није спонтана, равнотежа померена у леву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8" name="Object 10"/>
          <p:cNvGraphicFramePr/>
          <p:nvPr/>
        </p:nvGraphicFramePr>
        <p:xfrm>
          <a:off x="468360" y="3687840"/>
          <a:ext cx="532764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687840"/>
                    <a:ext cx="5327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0" name="Rectangle 11"/>
          <p:cNvSpPr/>
          <p:nvPr/>
        </p:nvSpPr>
        <p:spPr>
          <a:xfrm>
            <a:off x="287280" y="443700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тежно стање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1" name="Object 12"/>
          <p:cNvGraphicFramePr/>
          <p:nvPr/>
        </p:nvGraphicFramePr>
        <p:xfrm>
          <a:off x="620640" y="5119560"/>
          <a:ext cx="451656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5119560"/>
                    <a:ext cx="4516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2"/>
          <p:cNvSpPr/>
          <p:nvPr/>
        </p:nvSpPr>
        <p:spPr>
          <a:xfrm>
            <a:off x="324000" y="270828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редност електромоторне силе у реалним условима ути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 силе раств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вредност раств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комплексир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талож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1"/>
          <p:cNvSpPr/>
          <p:nvPr/>
        </p:nvSpPr>
        <p:spPr>
          <a:xfrm>
            <a:off x="505440" y="141300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различитих фактора на редокс потенциј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Box 1"/>
          <p:cNvSpPr/>
          <p:nvPr/>
        </p:nvSpPr>
        <p:spPr>
          <a:xfrm>
            <a:off x="1438200" y="3643200"/>
            <a:ext cx="395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 2HCl  → Zn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"/>
          <p:cNvSpPr/>
          <p:nvPr/>
        </p:nvSpPr>
        <p:spPr>
          <a:xfrm>
            <a:off x="1438200" y="3611520"/>
            <a:ext cx="566640" cy="57312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3"/>
          <p:cNvSpPr/>
          <p:nvPr/>
        </p:nvSpPr>
        <p:spPr>
          <a:xfrm>
            <a:off x="2211480" y="3548160"/>
            <a:ext cx="869760" cy="7952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4"/>
          <p:cNvSpPr/>
          <p:nvPr/>
        </p:nvSpPr>
        <p:spPr>
          <a:xfrm>
            <a:off x="1722600" y="4184640"/>
            <a:ext cx="0" cy="39528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traight Connector 5"/>
          <p:cNvSpPr/>
          <p:nvPr/>
        </p:nvSpPr>
        <p:spPr>
          <a:xfrm>
            <a:off x="1722600" y="4579920"/>
            <a:ext cx="1977840" cy="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6"/>
          <p:cNvCxnSpPr/>
          <p:nvPr/>
        </p:nvCxnSpPr>
        <p:spPr>
          <a:xfrm flipV="1">
            <a:off x="3700080" y="4147560"/>
            <a:ext cx="1080" cy="43236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790" name="Straight Connector 7"/>
          <p:cNvSpPr/>
          <p:nvPr/>
        </p:nvSpPr>
        <p:spPr>
          <a:xfrm flipV="1">
            <a:off x="2646360" y="3211200"/>
            <a:ext cx="0" cy="3366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8"/>
          <p:cNvSpPr/>
          <p:nvPr/>
        </p:nvSpPr>
        <p:spPr>
          <a:xfrm>
            <a:off x="2646360" y="3225960"/>
            <a:ext cx="223992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9"/>
          <p:cNvCxnSpPr/>
          <p:nvPr/>
        </p:nvCxnSpPr>
        <p:spPr>
          <a:xfrm>
            <a:off x="4898520" y="3225600"/>
            <a:ext cx="1080" cy="36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93" name="TextBox 10"/>
          <p:cNvSpPr/>
          <p:nvPr/>
        </p:nvSpPr>
        <p:spPr>
          <a:xfrm>
            <a:off x="1844640" y="453852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си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3011400" y="2751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у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Curved Down Arrow 12"/>
          <p:cNvSpPr/>
          <p:nvPr/>
        </p:nvSpPr>
        <p:spPr>
          <a:xfrm>
            <a:off x="1625760" y="3152880"/>
            <a:ext cx="1008000" cy="360360"/>
          </a:xfrm>
          <a:custGeom>
            <a:avLst/>
            <a:gdLst>
              <a:gd name="textAreaLeft" fmla="*/ 218160 w 1008000"/>
              <a:gd name="textAreaRight" fmla="*/ 74484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2" hR="21600" stAng="10800000" swAng="5400000"/>
                <a:lnTo>
                  <a:pt x="11283" y="0"/>
                </a:lnTo>
                <a:arcTo wR="9352" hR="21600" stAng="-5400000" swAng="3551407"/>
                <a:lnTo>
                  <a:pt x="21303" y="16200"/>
                </a:lnTo>
                <a:lnTo>
                  <a:pt x="19670" y="21600"/>
                </a:lnTo>
                <a:lnTo>
                  <a:pt x="17442" y="16200"/>
                </a:lnTo>
                <a:lnTo>
                  <a:pt x="18407" y="16200"/>
                </a:lnTo>
                <a:arcTo wR="9352" hR="21600" stAng="-1848593" swAng="-3397022"/>
                <a:lnTo>
                  <a:pt x="10318" y="115"/>
                </a:lnTo>
                <a:arcTo wR="9352" hR="21600" stAng="-5554386" swAng="-5245614"/>
                <a:close/>
              </a:path>
              <a:path fill="darkenLess" w="21600" h="21600">
                <a:moveTo>
                  <a:pt x="0" y="21600"/>
                </a:moveTo>
                <a:arcTo wR="9352" hR="21600" stAng="10800000" swAng="5400000"/>
                <a:lnTo>
                  <a:pt x="9352" y="0"/>
                </a:lnTo>
                <a:arcTo wR="9352" hR="21600" stAng="-5400000" swAng="154386"/>
                <a:lnTo>
                  <a:pt x="10318" y="115"/>
                </a:lnTo>
                <a:arcTo wR="9352" hR="21600" stAng="-5554386" swAng="-5245614"/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1844640" y="2768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е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"/>
          <p:cNvSpPr/>
          <p:nvPr/>
        </p:nvSpPr>
        <p:spPr>
          <a:xfrm>
            <a:off x="248400" y="72396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5"/>
          <p:cNvSpPr/>
          <p:nvPr/>
        </p:nvSpPr>
        <p:spPr>
          <a:xfrm>
            <a:off x="7198920" y="18097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7198560" y="22683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182520" y="5121360"/>
            <a:ext cx="86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10081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очигледног преласка 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ко се може одредити оксидацио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о сред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9"/>
          <p:cNvSpPr/>
          <p:nvPr/>
        </p:nvSpPr>
        <p:spPr>
          <a:xfrm>
            <a:off x="274680" y="5851440"/>
            <a:ext cx="72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отпушта 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оксидује се → редук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 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редукује се → оксида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1" descr=""/>
          <p:cNvPicPr/>
          <p:nvPr/>
        </p:nvPicPr>
        <p:blipFill>
          <a:blip r:embed="rId1"/>
          <a:stretch/>
        </p:blipFill>
        <p:spPr>
          <a:xfrm>
            <a:off x="407880" y="1763640"/>
            <a:ext cx="3606840" cy="4968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3" descr=""/>
          <p:cNvPicPr/>
          <p:nvPr/>
        </p:nvPicPr>
        <p:blipFill>
          <a:blip r:embed="rId2"/>
          <a:stretch/>
        </p:blipFill>
        <p:spPr>
          <a:xfrm>
            <a:off x="5065560" y="1760400"/>
            <a:ext cx="216540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3"/>
          <p:cNvSpPr/>
          <p:nvPr/>
        </p:nvSpPr>
        <p:spPr>
          <a:xfrm>
            <a:off x="1908000" y="1052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е силе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4"/>
          <p:cNvSpPr/>
          <p:nvPr/>
        </p:nvSpPr>
        <p:spPr>
          <a:xfrm>
            <a:off x="250920" y="155736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вантитативна веза између Е редокс реакције и концентрације, ако фактори активитет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же јединиц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5"/>
          <p:cNvSpPr/>
          <p:nvPr/>
        </p:nvSpPr>
        <p:spPr>
          <a:xfrm>
            <a:off x="4932360" y="256536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нстова једна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8" name="Object 5"/>
          <p:cNvGraphicFramePr/>
          <p:nvPr/>
        </p:nvGraphicFramePr>
        <p:xfrm>
          <a:off x="2050920" y="2421000"/>
          <a:ext cx="28083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21000"/>
                    <a:ext cx="28083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TextBox 6"/>
          <p:cNvSpPr/>
          <p:nvPr/>
        </p:nvSpPr>
        <p:spPr>
          <a:xfrm>
            <a:off x="468360" y="33577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Object 4"/>
          <p:cNvGraphicFramePr/>
          <p:nvPr/>
        </p:nvGraphicFramePr>
        <p:xfrm>
          <a:off x="2270160" y="3240000"/>
          <a:ext cx="2606760" cy="7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0160" y="3240000"/>
                    <a:ext cx="26067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Object 5"/>
          <p:cNvGraphicFramePr/>
          <p:nvPr/>
        </p:nvGraphicFramePr>
        <p:xfrm>
          <a:off x="5870520" y="3311640"/>
          <a:ext cx="1144800" cy="43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0520" y="3311640"/>
                    <a:ext cx="114480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5" name="Object 6"/>
          <p:cNvGraphicFramePr/>
          <p:nvPr/>
        </p:nvGraphicFramePr>
        <p:xfrm>
          <a:off x="2268360" y="4176720"/>
          <a:ext cx="453708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4176720"/>
                    <a:ext cx="45370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7" name="TextBox 10"/>
          <p:cNvSpPr/>
          <p:nvPr/>
        </p:nvSpPr>
        <p:spPr>
          <a:xfrm>
            <a:off x="179280" y="4941720"/>
            <a:ext cx="52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стантној јонској сили раств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Object 7"/>
          <p:cNvGraphicFramePr/>
          <p:nvPr/>
        </p:nvGraphicFramePr>
        <p:xfrm>
          <a:off x="2124000" y="5445000"/>
          <a:ext cx="4537080" cy="76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5445000"/>
                    <a:ext cx="453708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Right Brace 12"/>
          <p:cNvSpPr/>
          <p:nvPr/>
        </p:nvSpPr>
        <p:spPr>
          <a:xfrm rot="5400000">
            <a:off x="3528000" y="5193360"/>
            <a:ext cx="287640" cy="223200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2232000"/>
              <a:gd name="textAreaBottom" fmla="*/ 22248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16200" y="10800"/>
                  <a:pt x="21600" y="10800"/>
                </a:cubicBezTo>
                <a:cubicBezTo>
                  <a:pt x="162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1" name="Object 8"/>
          <p:cNvGraphicFramePr/>
          <p:nvPr/>
        </p:nvGraphicFramePr>
        <p:xfrm>
          <a:off x="3564000" y="6429240"/>
          <a:ext cx="422280" cy="31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6429240"/>
                    <a:ext cx="4222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Box 2"/>
          <p:cNvSpPr/>
          <p:nvPr/>
        </p:nvSpPr>
        <p:spPr>
          <a:xfrm>
            <a:off x="250920" y="134136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R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`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овни потенцијал – представља потенцијал датог редок пара (у односу 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а су концентрације оксидованог и редукованог облика једнаке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да су познате концентрације других компоненти у раствору (због јонске јачине раствора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Object 4"/>
          <p:cNvGraphicFramePr/>
          <p:nvPr/>
        </p:nvGraphicFramePr>
        <p:xfrm>
          <a:off x="1762200" y="3284640"/>
          <a:ext cx="115416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3284640"/>
                    <a:ext cx="11541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Object 5"/>
          <p:cNvGraphicFramePr/>
          <p:nvPr/>
        </p:nvGraphicFramePr>
        <p:xfrm>
          <a:off x="4067280" y="3286080"/>
          <a:ext cx="32414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3286080"/>
                    <a:ext cx="3241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TextBox 6"/>
          <p:cNvSpPr/>
          <p:nvPr/>
        </p:nvSpPr>
        <p:spPr>
          <a:xfrm>
            <a:off x="3132000" y="335772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245880" y="4575240"/>
            <a:ext cx="85608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и потенцијал редокс пар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налази у раствор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ц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зноси 0,7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нц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0,6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Box 11"/>
          <p:cNvSpPr/>
          <p:nvPr/>
        </p:nvSpPr>
        <p:spPr>
          <a:xfrm>
            <a:off x="3564000" y="105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2"/>
          <p:cNvSpPr/>
          <p:nvPr/>
        </p:nvSpPr>
        <p:spPr>
          <a:xfrm>
            <a:off x="324000" y="184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у полуреакцији учествују хидронијум или хидроксидни јони, електродни потенцијал зависи од pH рас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3"/>
          <p:cNvSpPr/>
          <p:nvPr/>
        </p:nvSpPr>
        <p:spPr>
          <a:xfrm>
            <a:off x="1908000" y="2924280"/>
            <a:ext cx="46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 + m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d + q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Object 3"/>
              <p:cNvSpPr txBox="1"/>
              <p:nvPr/>
            </p:nvSpPr>
            <p:spPr>
              <a:xfrm>
                <a:off x="1835280" y="3933720"/>
                <a:ext cx="4616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d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4" name="TextBox 5"/>
          <p:cNvSpPr/>
          <p:nvPr/>
        </p:nvSpPr>
        <p:spPr>
          <a:xfrm>
            <a:off x="468360" y="5445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 pH вредности раствора може изазвати велику промену потенц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1"/>
          <p:cNvSpPr/>
          <p:nvPr/>
        </p:nvSpPr>
        <p:spPr>
          <a:xfrm>
            <a:off x="34920" y="10033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нстова једначина може да се користи и за одређивање електродног потенцијала полуреа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"/>
          <p:cNvSpPr/>
          <p:nvPr/>
        </p:nvSpPr>
        <p:spPr>
          <a:xfrm>
            <a:off x="2197080" y="1773360"/>
            <a:ext cx="4822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e</a:t>
            </a:r>
            <a:r>
              <a:rPr b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1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H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108000" y="4397400"/>
            <a:ext cx="896472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растом концентрације оксидационог средства (смањењ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редукционог средства) долази до пораста електродно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растом концентра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, тј. смањење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лази д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ста електродног потенцијала; због експонента овај утицај је веома израж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Object 3"/>
              <p:cNvSpPr txBox="1"/>
              <p:nvPr/>
            </p:nvSpPr>
            <p:spPr>
              <a:xfrm>
                <a:off x="2340000" y="3478320"/>
                <a:ext cx="4127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59" name="Object 5"/>
          <p:cNvGraphicFramePr/>
          <p:nvPr/>
        </p:nvGraphicFramePr>
        <p:xfrm>
          <a:off x="2700360" y="2517840"/>
          <a:ext cx="289548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517840"/>
                    <a:ext cx="28954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1"/>
          <p:cNvSpPr/>
          <p:nvPr/>
        </p:nvSpPr>
        <p:spPr>
          <a:xfrm>
            <a:off x="2556000" y="3571920"/>
            <a:ext cx="381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(s)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–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(s)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,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,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H2(g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e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0,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Zn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0,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(s)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,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g(s)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,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(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(s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3,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"/>
          <p:cNvSpPr/>
          <p:nvPr/>
        </p:nvSpPr>
        <p:spPr>
          <a:xfrm>
            <a:off x="2340000" y="16606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    племенити м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1835280" y="2381400"/>
            <a:ext cx="59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...Na...Mg...Al...Zn...Fe...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Cu...Ag...Au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1781640" y="29242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5"/>
          <p:cNvSpPr/>
          <p:nvPr/>
        </p:nvSpPr>
        <p:spPr>
          <a:xfrm>
            <a:off x="5382000" y="314172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traight Connector 11"/>
          <p:cNvSpPr/>
          <p:nvPr/>
        </p:nvSpPr>
        <p:spPr>
          <a:xfrm flipV="1">
            <a:off x="4930920" y="2133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traight Connector 12"/>
          <p:cNvSpPr/>
          <p:nvPr/>
        </p:nvSpPr>
        <p:spPr>
          <a:xfrm flipV="1">
            <a:off x="4786200" y="2133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8" name="Straight Arrow Connector 18"/>
          <p:cNvCxnSpPr/>
          <p:nvPr/>
        </p:nvCxnSpPr>
        <p:spPr>
          <a:xfrm>
            <a:off x="4930920" y="2133360"/>
            <a:ext cx="1729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69" name="Straight Arrow Connector 20"/>
          <p:cNvCxnSpPr/>
          <p:nvPr/>
        </p:nvCxnSpPr>
        <p:spPr>
          <a:xfrm flipH="1">
            <a:off x="2409120" y="2133360"/>
            <a:ext cx="23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70" name="Straight Connector 21"/>
          <p:cNvSpPr/>
          <p:nvPr/>
        </p:nvSpPr>
        <p:spPr>
          <a:xfrm flipV="1">
            <a:off x="4859280" y="278136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22"/>
          <p:cNvSpPr/>
          <p:nvPr/>
        </p:nvSpPr>
        <p:spPr>
          <a:xfrm>
            <a:off x="4714920" y="3141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Straight Arrow Connector 24"/>
          <p:cNvCxnSpPr/>
          <p:nvPr/>
        </p:nvCxnSpPr>
        <p:spPr>
          <a:xfrm>
            <a:off x="1617840" y="2852280"/>
            <a:ext cx="547416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73" name="Rectangle 25"/>
          <p:cNvSpPr/>
          <p:nvPr/>
        </p:nvSpPr>
        <p:spPr>
          <a:xfrm>
            <a:off x="2627280" y="112536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онски низ ме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1"/>
          <p:cNvSpPr/>
          <p:nvPr/>
        </p:nvSpPr>
        <p:spPr>
          <a:xfrm>
            <a:off x="2700360" y="3147840"/>
            <a:ext cx="387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а редукциона способ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1908000" y="1204920"/>
            <a:ext cx="53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    племенити мет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3"/>
          <p:cNvSpPr/>
          <p:nvPr/>
        </p:nvSpPr>
        <p:spPr>
          <a:xfrm>
            <a:off x="1258920" y="192420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...Na...Mg...Al...Zn...Fe..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Cu...Ag...Au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5"/>
          <p:cNvSpPr/>
          <p:nvPr/>
        </p:nvSpPr>
        <p:spPr>
          <a:xfrm>
            <a:off x="6381360" y="2428920"/>
            <a:ext cx="7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6"/>
          <p:cNvSpPr/>
          <p:nvPr/>
        </p:nvSpPr>
        <p:spPr>
          <a:xfrm flipV="1">
            <a:off x="4716360" y="1636200"/>
            <a:ext cx="0" cy="28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traight Connector 7"/>
          <p:cNvSpPr/>
          <p:nvPr/>
        </p:nvSpPr>
        <p:spPr>
          <a:xfrm flipV="1">
            <a:off x="4572000" y="1636200"/>
            <a:ext cx="0" cy="28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0" name="Straight Arrow Connector 8"/>
          <p:cNvCxnSpPr/>
          <p:nvPr/>
        </p:nvCxnSpPr>
        <p:spPr>
          <a:xfrm>
            <a:off x="4716360" y="1636200"/>
            <a:ext cx="172800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81" name="Straight Arrow Connector 9"/>
          <p:cNvCxnSpPr/>
          <p:nvPr/>
        </p:nvCxnSpPr>
        <p:spPr>
          <a:xfrm flipH="1">
            <a:off x="2194920" y="1636200"/>
            <a:ext cx="23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82" name="Straight Connector 10"/>
          <p:cNvSpPr/>
          <p:nvPr/>
        </p:nvSpPr>
        <p:spPr>
          <a:xfrm flipV="1">
            <a:off x="4643280" y="228456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11"/>
          <p:cNvSpPr/>
          <p:nvPr/>
        </p:nvSpPr>
        <p:spPr>
          <a:xfrm>
            <a:off x="4500720" y="264492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4" name="Straight Arrow Connector 12"/>
          <p:cNvCxnSpPr/>
          <p:nvPr/>
        </p:nvCxnSpPr>
        <p:spPr>
          <a:xfrm>
            <a:off x="1402920" y="2355480"/>
            <a:ext cx="54727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85" name="Straight Arrow Connector 14"/>
          <p:cNvCxnSpPr/>
          <p:nvPr/>
        </p:nvCxnSpPr>
        <p:spPr>
          <a:xfrm>
            <a:off x="2195640" y="3076200"/>
            <a:ext cx="46807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86" name="Rectangle 15"/>
          <p:cNvSpPr/>
          <p:nvPr/>
        </p:nvSpPr>
        <p:spPr>
          <a:xfrm>
            <a:off x="179280" y="3797280"/>
            <a:ext cx="4572000" cy="28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редукциона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оксиду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 кородира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 са разблажени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исел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ј. с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ом уз истискива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6"/>
          <p:cNvSpPr/>
          <p:nvPr/>
        </p:nvSpPr>
        <p:spPr>
          <a:xfrm>
            <a:off x="4572000" y="3803760"/>
            <a:ext cx="45720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енити мета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 реактив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агују са разблажени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исел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ј. с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ом уз истискива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1"/>
          <p:cNvSpPr/>
          <p:nvPr/>
        </p:nvSpPr>
        <p:spPr>
          <a:xfrm>
            <a:off x="179280" y="2852640"/>
            <a:ext cx="8713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бакар може да реду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 до сребра (истисне сребро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јаче редукционо средство од среб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"/>
          <p:cNvSpPr/>
          <p:nvPr/>
        </p:nvSpPr>
        <p:spPr>
          <a:xfrm>
            <a:off x="1187280" y="6021360"/>
            <a:ext cx="340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2A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2Ag + Cu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485640" y="4006800"/>
            <a:ext cx="480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s) + 2AgN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2Ag(s) + Cu(N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179280" y="4869000"/>
            <a:ext cx="63374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ребро може да истисне цин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g 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слабије редукционо средство од ци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1258920" y="1557360"/>
            <a:ext cx="59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...Na...Mg...Al...Zn...Fe...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Cu...Ag...Au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6171840" y="20620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traight Connector 7"/>
          <p:cNvSpPr/>
          <p:nvPr/>
        </p:nvSpPr>
        <p:spPr>
          <a:xfrm flipV="1">
            <a:off x="4427640" y="1917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5" name="Straight Arrow Connector 8"/>
          <p:cNvCxnSpPr/>
          <p:nvPr/>
        </p:nvCxnSpPr>
        <p:spPr>
          <a:xfrm>
            <a:off x="1186920" y="1988640"/>
            <a:ext cx="54727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96" name="TextBox 9"/>
          <p:cNvSpPr/>
          <p:nvPr/>
        </p:nvSpPr>
        <p:spPr>
          <a:xfrm>
            <a:off x="4211640" y="2278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Picture 2" descr=""/>
          <p:cNvPicPr/>
          <p:nvPr/>
        </p:nvPicPr>
        <p:blipFill>
          <a:blip r:embed="rId1"/>
          <a:srcRect l="34586" t="39985" r="46600" b="30487"/>
          <a:stretch/>
        </p:blipFill>
        <p:spPr>
          <a:xfrm>
            <a:off x="6443640" y="3860640"/>
            <a:ext cx="2448000" cy="2160720"/>
          </a:xfrm>
          <a:prstGeom prst="rect">
            <a:avLst/>
          </a:prstGeom>
          <a:ln w="0">
            <a:noFill/>
          </a:ln>
        </p:spPr>
      </p:pic>
      <p:sp>
        <p:nvSpPr>
          <p:cNvPr id="1198" name="Straight Connector 11"/>
          <p:cNvSpPr/>
          <p:nvPr/>
        </p:nvSpPr>
        <p:spPr>
          <a:xfrm flipV="1">
            <a:off x="4500720" y="1196640"/>
            <a:ext cx="0" cy="289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traight Connector 12"/>
          <p:cNvSpPr/>
          <p:nvPr/>
        </p:nvSpPr>
        <p:spPr>
          <a:xfrm flipV="1">
            <a:off x="4356000" y="1196640"/>
            <a:ext cx="0" cy="289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Straight Arrow Connector 13"/>
          <p:cNvCxnSpPr/>
          <p:nvPr/>
        </p:nvCxnSpPr>
        <p:spPr>
          <a:xfrm>
            <a:off x="4500360" y="1196640"/>
            <a:ext cx="17276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201" name="Straight Arrow Connector 14"/>
          <p:cNvCxnSpPr/>
          <p:nvPr/>
        </p:nvCxnSpPr>
        <p:spPr>
          <a:xfrm flipH="1">
            <a:off x="1978920" y="1196640"/>
            <a:ext cx="23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202" name="Rectangle 1"/>
          <p:cNvSpPr/>
          <p:nvPr/>
        </p:nvSpPr>
        <p:spPr>
          <a:xfrm>
            <a:off x="403920" y="213840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1"/>
          <p:cNvSpPr/>
          <p:nvPr/>
        </p:nvSpPr>
        <p:spPr>
          <a:xfrm>
            <a:off x="250920" y="100332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ји метали реагују са разблаженим киселинама уз истискивање водони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179280" y="4941720"/>
            <a:ext cx="45720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 са разблажени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исел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ј. с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ом уз истискивањ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3"/>
          <p:cNvSpPr/>
          <p:nvPr/>
        </p:nvSpPr>
        <p:spPr>
          <a:xfrm>
            <a:off x="5219640" y="4941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агују са разблажени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исел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4"/>
          <p:cNvSpPr/>
          <p:nvPr/>
        </p:nvSpPr>
        <p:spPr>
          <a:xfrm>
            <a:off x="250920" y="3933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–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g/M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 – (–2,36) = 2,36 V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5148360" y="395604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E) –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/A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 – 0,80 = –0,80 V &l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1116000" y="2452680"/>
            <a:ext cx="59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...Na...Mg...Al...Zn...Fe..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Cu...Ag...Au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7"/>
          <p:cNvSpPr/>
          <p:nvPr/>
        </p:nvSpPr>
        <p:spPr>
          <a:xfrm>
            <a:off x="6165360" y="2957400"/>
            <a:ext cx="7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traight Connector 8"/>
          <p:cNvSpPr/>
          <p:nvPr/>
        </p:nvSpPr>
        <p:spPr>
          <a:xfrm flipV="1">
            <a:off x="4427640" y="281304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1" name="Straight Arrow Connector 9"/>
          <p:cNvCxnSpPr/>
          <p:nvPr/>
        </p:nvCxnSpPr>
        <p:spPr>
          <a:xfrm>
            <a:off x="1186920" y="2883960"/>
            <a:ext cx="547272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212" name="TextBox 10"/>
          <p:cNvSpPr/>
          <p:nvPr/>
        </p:nvSpPr>
        <p:spPr>
          <a:xfrm>
            <a:off x="4211640" y="3173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11"/>
          <p:cNvSpPr/>
          <p:nvPr/>
        </p:nvSpPr>
        <p:spPr>
          <a:xfrm>
            <a:off x="1638360" y="1628640"/>
            <a:ext cx="574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    племенити мет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traight Connector 12"/>
          <p:cNvSpPr/>
          <p:nvPr/>
        </p:nvSpPr>
        <p:spPr>
          <a:xfrm flipV="1">
            <a:off x="4500720" y="2133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traight Connector 13"/>
          <p:cNvSpPr/>
          <p:nvPr/>
        </p:nvSpPr>
        <p:spPr>
          <a:xfrm flipV="1">
            <a:off x="4356000" y="2133720"/>
            <a:ext cx="0" cy="287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6" name="Straight Arrow Connector 14"/>
          <p:cNvCxnSpPr/>
          <p:nvPr/>
        </p:nvCxnSpPr>
        <p:spPr>
          <a:xfrm>
            <a:off x="4500360" y="2133360"/>
            <a:ext cx="17276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217" name="Straight Arrow Connector 15"/>
          <p:cNvCxnSpPr/>
          <p:nvPr/>
        </p:nvCxnSpPr>
        <p:spPr>
          <a:xfrm flipH="1">
            <a:off x="1978920" y="2133360"/>
            <a:ext cx="23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218" name="Rectangle 16"/>
          <p:cNvSpPr/>
          <p:nvPr/>
        </p:nvSpPr>
        <p:spPr>
          <a:xfrm>
            <a:off x="5452560" y="3357720"/>
            <a:ext cx="236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енити мет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7"/>
          <p:cNvSpPr/>
          <p:nvPr/>
        </p:nvSpPr>
        <p:spPr>
          <a:xfrm>
            <a:off x="269640" y="3284640"/>
            <a:ext cx="263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леменити мет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18"/>
          <p:cNvSpPr/>
          <p:nvPr/>
        </p:nvSpPr>
        <p:spPr>
          <a:xfrm>
            <a:off x="144360" y="616572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 ⇒ реакција се одиграва при стандардним условима (спонтана ј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"/>
          <p:cNvSpPr/>
          <p:nvPr/>
        </p:nvSpPr>
        <p:spPr>
          <a:xfrm>
            <a:off x="182520" y="2708280"/>
            <a:ext cx="878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се оксидује ⇒ оксидациони број се повећава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 редук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се редукује ⇒ оксидациони број се смањује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⇒ оксидационо сре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1116000" y="42051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KСИД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ПОВЕЋАЊЕ ОKСИДАЦИОНОГ БР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K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МАЊЕЊЕ ОKСИДАЦИОНОГ БР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255600" y="54482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ромене оксидационих бројева ⇒ није редокс реа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6"/>
          <p:cNvSpPr/>
          <p:nvPr/>
        </p:nvSpPr>
        <p:spPr>
          <a:xfrm>
            <a:off x="1908000" y="1693800"/>
            <a:ext cx="46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 2HCl  →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9"/>
          <p:cNvSpPr/>
          <p:nvPr/>
        </p:nvSpPr>
        <p:spPr>
          <a:xfrm>
            <a:off x="2127240" y="2239920"/>
            <a:ext cx="0" cy="28908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10"/>
          <p:cNvSpPr/>
          <p:nvPr/>
        </p:nvSpPr>
        <p:spPr>
          <a:xfrm flipV="1">
            <a:off x="2124000" y="2528640"/>
            <a:ext cx="2524320" cy="3240"/>
          </a:xfrm>
          <a:prstGeom prst="line">
            <a:avLst/>
          </a:prstGeom>
          <a:ln w="22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Straight Arrow Connector 11"/>
          <p:cNvCxnSpPr/>
          <p:nvPr/>
        </p:nvCxnSpPr>
        <p:spPr>
          <a:xfrm flipV="1">
            <a:off x="4647960" y="2198160"/>
            <a:ext cx="1080" cy="33120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11" name="Straight Connector 12"/>
          <p:cNvSpPr/>
          <p:nvPr/>
        </p:nvSpPr>
        <p:spPr>
          <a:xfrm flipV="1">
            <a:off x="3203640" y="1204920"/>
            <a:ext cx="0" cy="28728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13"/>
          <p:cNvSpPr/>
          <p:nvPr/>
        </p:nvSpPr>
        <p:spPr>
          <a:xfrm>
            <a:off x="3203640" y="1204920"/>
            <a:ext cx="280656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Straight Arrow Connector 14"/>
          <p:cNvCxnSpPr/>
          <p:nvPr/>
        </p:nvCxnSpPr>
        <p:spPr>
          <a:xfrm flipH="1">
            <a:off x="6011280" y="1190520"/>
            <a:ext cx="14760" cy="3326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14" name="TextBox 15"/>
          <p:cNvSpPr/>
          <p:nvPr/>
        </p:nvSpPr>
        <p:spPr>
          <a:xfrm>
            <a:off x="2631960" y="21258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сид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6"/>
          <p:cNvSpPr/>
          <p:nvPr/>
        </p:nvSpPr>
        <p:spPr>
          <a:xfrm>
            <a:off x="3924360" y="11905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21"/>
          <p:cNvSpPr/>
          <p:nvPr/>
        </p:nvSpPr>
        <p:spPr>
          <a:xfrm>
            <a:off x="2987640" y="1477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2"/>
          <p:cNvSpPr/>
          <p:nvPr/>
        </p:nvSpPr>
        <p:spPr>
          <a:xfrm>
            <a:off x="5867280" y="14778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8"/>
          <p:cNvSpPr/>
          <p:nvPr/>
        </p:nvSpPr>
        <p:spPr>
          <a:xfrm>
            <a:off x="2124000" y="1477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0"/>
          <p:cNvSpPr/>
          <p:nvPr/>
        </p:nvSpPr>
        <p:spPr>
          <a:xfrm>
            <a:off x="4427640" y="1509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1"/>
          <p:cNvSpPr/>
          <p:nvPr/>
        </p:nvSpPr>
        <p:spPr>
          <a:xfrm>
            <a:off x="1116000" y="6054840"/>
            <a:ext cx="590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+  HCl  →  NaCl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"/>
          <p:cNvSpPr/>
          <p:nvPr/>
        </p:nvSpPr>
        <p:spPr>
          <a:xfrm>
            <a:off x="197640" y="481176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179280" y="1773360"/>
            <a:ext cx="896472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 бро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мера степена оксидације атома у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се арапским бројем изнад симбола еле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а за одређивање оксидационих број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 број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елементарно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стањ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нак 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пр. за 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 број елемента у једноатомском јону једнак је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њу тог јона (нпр. за A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 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2843280" y="9619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ациони бр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1"/>
          <p:cNvSpPr/>
          <p:nvPr/>
        </p:nvSpPr>
        <p:spPr>
          <a:xfrm>
            <a:off x="353160" y="1773360"/>
            <a:ext cx="860400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и елементи имају исти оксидациони број у СKОРО сви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 једињењи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ПСЕ увек имају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ПСЕ увек имају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ек има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чно има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узев у пероксидима и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и-једињењима где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чно има оксидациони бро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узев у хидридим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 где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"/>
          <p:cNvSpPr/>
          <p:nvPr/>
        </p:nvSpPr>
        <p:spPr>
          <a:xfrm>
            <a:off x="395280" y="1125360"/>
            <a:ext cx="8136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р оксидационих број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утралној супстанци једнак је 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шеатомском јону једнак је наелектрисању тог ј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536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1"/>
          <p:cNvSpPr/>
          <p:nvPr/>
        </p:nvSpPr>
        <p:spPr>
          <a:xfrm>
            <a:off x="184320" y="16128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ристи се шема размене електрона; полуреакције се множе одговарајућим коефицијентима, да би се број примљених и размењених електрона изједначи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358920" y="105264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 сређивања редокс ре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22"/>
          <p:cNvSpPr/>
          <p:nvPr/>
        </p:nvSpPr>
        <p:spPr>
          <a:xfrm>
            <a:off x="722160" y="3187800"/>
            <a:ext cx="46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 HCl  →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1685880" y="2963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4413240" y="2971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3"/>
          <p:cNvSpPr/>
          <p:nvPr/>
        </p:nvSpPr>
        <p:spPr>
          <a:xfrm>
            <a:off x="880920" y="2971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34"/>
          <p:cNvSpPr/>
          <p:nvPr/>
        </p:nvSpPr>
        <p:spPr>
          <a:xfrm>
            <a:off x="2989440" y="29923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41"/>
          <p:cNvSpPr/>
          <p:nvPr/>
        </p:nvSpPr>
        <p:spPr>
          <a:xfrm>
            <a:off x="5211720" y="4114800"/>
            <a:ext cx="296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оксидаци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42"/>
          <p:cNvSpPr/>
          <p:nvPr/>
        </p:nvSpPr>
        <p:spPr>
          <a:xfrm>
            <a:off x="5211720" y="4683240"/>
            <a:ext cx="27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реакција реду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"/>
          <p:cNvSpPr/>
          <p:nvPr/>
        </p:nvSpPr>
        <p:spPr>
          <a:xfrm>
            <a:off x="239760" y="3157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727200" y="5810400"/>
            <a:ext cx="46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→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31"/>
          <p:cNvSpPr/>
          <p:nvPr/>
        </p:nvSpPr>
        <p:spPr>
          <a:xfrm>
            <a:off x="1806480" y="55944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32"/>
          <p:cNvSpPr/>
          <p:nvPr/>
        </p:nvSpPr>
        <p:spPr>
          <a:xfrm>
            <a:off x="4618080" y="55944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33"/>
          <p:cNvSpPr/>
          <p:nvPr/>
        </p:nvSpPr>
        <p:spPr>
          <a:xfrm>
            <a:off x="942840" y="55944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34"/>
          <p:cNvSpPr/>
          <p:nvPr/>
        </p:nvSpPr>
        <p:spPr>
          <a:xfrm>
            <a:off x="3246480" y="5626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4" descr=""/>
          <p:cNvPicPr/>
          <p:nvPr/>
        </p:nvPicPr>
        <p:blipFill>
          <a:blip r:embed="rId1"/>
          <a:stretch/>
        </p:blipFill>
        <p:spPr>
          <a:xfrm>
            <a:off x="677880" y="4149720"/>
            <a:ext cx="4437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Corporate Edition</cp:lastModifiedBy>
  <dcterms:modified xsi:type="dcterms:W3CDTF">2017-10-05T20:14:45Z</dcterms:modified>
  <cp:revision>579</cp:revision>
  <dc:subject/>
  <dc:title>Slide 1</dc:title>
</cp:coreProperties>
</file>